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5A40-6E05-4C62-8ABF-C6FCC1085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B093-FFDB-48C8-9A69-BD6B69C4A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AAB9-F69B-4976-8D55-B5FA33040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9065-37EC-4089-9E1F-CC7E12CE0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87B3-B518-4BD8-8EDF-1EAE680CF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4B9E-F82B-4589-9126-35BA72D28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65D5-8619-41B8-9EFA-A03042473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FD43-6CDC-4F35-8E22-B7D633E78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9863-6439-4159-8A07-66AE3E955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A7F9-EAB1-4B46-9290-DAECBE2D8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33AE-1997-41C1-A5B7-9BCFE23DF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50A7-33EA-4C3A-BF31-7D285AE6F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39AC7-1961-4766-AC34-8D386587CA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03240" y="806400"/>
            <a:ext cx="6384960" cy="45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8-Signal Smart Battery Controll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８信号バッテリ制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Oct-23-199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Yosuke Konaka/Hitachi,Ltd. P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konaka@ebina.hitachi.co.j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99320" y="6324480"/>
            <a:ext cx="116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HITACHI, Lt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41000" y="11736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 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699320" y="6324480"/>
            <a:ext cx="116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HITACHI, Lt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295280" y="533520"/>
            <a:ext cx="490536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7699320" y="6324480"/>
            <a:ext cx="116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HITACHI, Lt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8600" y="152280"/>
            <a:ext cx="863280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Why need “INT#”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なぜ、“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INT#”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信号が必要なの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If  battery pack supports "INT#" signal, the system si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can acquire a change of a flag at real-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もし、割込信号をｻﾎﾟｰﾄすれば、装置側はﾘｱﾙﾀｲﾑにﾌﾗｸﾞ情報の変化を取得できる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-In the device side,Can lengthen an interval of po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ﾚｼﾞｽﾀﾎﾟｰﾘﾝｸﾞ間隔を広げることが可能になる。（バッテリ消費電力／装置側不可の低減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-Can acquire critical condition at real-time even if do not us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broad cast pa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ｸﾘﾃｨｶﾙｺﾝﾃﾞｨｼｮﾝの発生をﾌﾞﾛｰﾄﾞｷｬｽﾄを受けなくても取得できる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-Can use Standard I/O port for SMBus I/F, If do not use the br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cast pa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ﾌﾞﾛｰﾄﾞｷｬｽﾄを使用しないｼｽﾃﾑでは、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SMBus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のﾎﾟｰﾄにﾏｲｺﾝの標準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I/O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ﾎﾟｰﾄが使用可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-Can acquire condition change of battery sur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ｺﾝﾃﾞｨｼｮﾝの変化を確実に取得できる（取りこぼし無し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7699320" y="6324480"/>
            <a:ext cx="116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HITACHI, Lt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8600" y="152280"/>
            <a:ext cx="863280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Why need “LOBAT#”Signal     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なぜ、“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LOBAT#”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信号が必要なの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By chemistry  and constitution, the Suspend voltage is different, but cannot acquire the stop voltage from information of SMBus slave 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System side must monitoring battery voltage by system side A/D converter. And System side had suspend voltage table for each batte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バッテリケミストリや構成毎にｻｽﾍﾟﾝﾄﾞ電圧は異なり、そのｻｽﾍﾟﾝﾄﾞ電圧は、バッテリから取得できない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装置側は、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A/D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ｺﾝﾊﾞｰﾀでバッテリ電圧を監視し、バッテリ種毎にｻｽﾍﾟﾝﾄﾞ移行電圧ﾃｰﾌﾞﾙを持つ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-System side no need Suspend volatge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装置側は、バッテリ種毎にｻｽﾍﾟﾝﾄﾞ移行電圧ﾃｰﾌﾞﾙは必要ない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-System side no need A/D converter for detect suspend volt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装置側は、ｻｽﾍﾟﾝﾄﾞ移行電圧検出用の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A/D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ｺﾝﾊﾞｰﾀを持つ必要がない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-System side can support future type battery, If no change system side controller. 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装置側の変更をしなくても将来のバッテリに対応できる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228600"/>
            <a:ext cx="869616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Why need “New signal definitio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なぜ、新しく信号を定義しなくてはいけないの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*Now, the battery pack which had much "Smart Battery"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is produced current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現在、多くの“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Smart Battery”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が市場に対して“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Smart Battery”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として存在しま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-But interface signal (internal unit)is different every a type pa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しかし、ｲﾝﾀﾌｪｰｽの信号（回路）は、パックの種類毎に異なっていま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-Internal Alarm Flag condition is not same as every type pa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 “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Alarm Flag”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の変化する条件も、パックの種類毎に異なりま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*To Market, Many vendor release “Smart-Battery Charger” 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“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Selector” 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-But, System has a risk becoming uns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-Cost Iss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市場に多くの、“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Smart”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関連の製品が出荷されていますが、“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Flag”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の変化条件等がことな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る為、単純に組み合わせるには高いリスクが存在します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ﾊﾞｯﾃﾘﾊﾟｯｸ毎に異なる使用のｺﾝﾄﾛｰﾗを使用しては、ｺｽﾄを圧迫する原因になります。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99320" y="6324480"/>
            <a:ext cx="116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HITACHI, Lt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304920"/>
            <a:ext cx="8485200" cy="62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*This specification defines “Flag Condition” “Signal Specificatio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and does not define physical specification, physical connecto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pin cou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この仕様は、ﾌﾗｸﾞの変化条件、信号の仕様を規定するのみで、物理的なｻｲｽﾞ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物理的なｺﾈｸﾀ仕様を示すものではありません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*Many makers get possible to use common battery controller.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-Battery vendor can use same controller for many custom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ﾊﾞｯﾃﾘﾍﾞﾝﾀﾞは、装置ﾕｰｻﾞに対して同じﾌﾟﾗｯﾄﾌｫｰﾑを提供できま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-System vendor can use same system side controller with diffe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vendor Batter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装置ﾍﾞﾝﾀﾞは、ﾊﾞｯﾃﾘﾍﾞﾝﾀﾞが変わっても、装置側のｺﾝﾄﾛｰﾗには同じものを採用するこ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ができま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-Easy Bui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-Cost Sa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-Time to Market 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結果、簡単に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SBS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ｼｽﾃﾑを安価に構築できま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99320" y="6324480"/>
            <a:ext cx="116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HITACHI, Lt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88240" y="422280"/>
            <a:ext cx="7451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8-Sig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BATT+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I/O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Battery Charge / Discharge Term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SYSDET#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System Det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I/O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SMBu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CLK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I/O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SMBus C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INT#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Interrupt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Thermis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LOBAT#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Lo Battery  Alarm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BATT-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I/O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Battery Ground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99320" y="6324480"/>
            <a:ext cx="116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HITACHI, Lt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699320" y="6324480"/>
            <a:ext cx="116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HITACHI, Lt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12280" y="345960"/>
            <a:ext cx="7605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8pin Platform had four original sign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-SYSDET#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System Detect Signal for Battery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Battery pack can detect system un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Low: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System det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Battery pack supply power from BATT+ termi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Open: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System not det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Battery pack not supply power to BATT+ termi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Battery pack disable(block) SMBus sign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Battery Pack can in to sleep mode for save pow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699320" y="6324480"/>
            <a:ext cx="116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HITACHI, Lt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17680" y="345960"/>
            <a:ext cx="7948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INT#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us Change Interrupt sig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us Change notification interrupt for system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ttery pack side detect change Battery Status( ) flag,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rupt signal to system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us Changed. (Request to read Battery Status ( ) fl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-Z:non interrupt condi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7480" y="4556160"/>
            <a:ext cx="1605240" cy="2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5440" rIns="55440" tIns="27000" bIns="27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Flag Cond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31120" y="5048280"/>
            <a:ext cx="538200" cy="2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5440" rIns="55440" tIns="27000" bIns="27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INT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-25920" y="5486400"/>
            <a:ext cx="2458440" cy="2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5440" rIns="55440" tIns="27000" bIns="27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Read Battery Status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05120" y="5029200"/>
            <a:ext cx="990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95480" y="5029200"/>
            <a:ext cx="90720" cy="274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4145040" y="5043600"/>
            <a:ext cx="92160" cy="274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971800" y="533412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4237200" y="5029200"/>
            <a:ext cx="1249200" cy="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3962520" y="5486400"/>
            <a:ext cx="547560" cy="274680"/>
            <a:chOff x="3962520" y="5486400"/>
            <a:chExt cx="547560" cy="274680"/>
          </a:xfrm>
        </p:grpSpPr>
        <p:sp>
          <p:nvSpPr>
            <p:cNvPr id="62" name=""/>
            <p:cNvSpPr/>
            <p:nvPr/>
          </p:nvSpPr>
          <p:spPr>
            <a:xfrm>
              <a:off x="4008600" y="548640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08600" y="576108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465800" y="5486400"/>
              <a:ext cx="44280" cy="137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4465800" y="5624280"/>
              <a:ext cx="44280" cy="136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3962520" y="5486400"/>
              <a:ext cx="46080" cy="137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 flipV="1">
              <a:off x="3962520" y="5624280"/>
              <a:ext cx="46080" cy="136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2286000" y="5638680"/>
            <a:ext cx="1676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95680" y="5638680"/>
            <a:ext cx="1219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971800" y="4800600"/>
            <a:ext cx="0" cy="320760"/>
          </a:xfrm>
          <a:prstGeom prst="line">
            <a:avLst/>
          </a:prstGeom>
          <a:ln w="50760">
            <a:solidFill>
              <a:srgbClr val="114ff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191120" y="5257440"/>
            <a:ext cx="0" cy="320760"/>
          </a:xfrm>
          <a:prstGeom prst="line">
            <a:avLst/>
          </a:prstGeom>
          <a:ln w="50760">
            <a:solidFill>
              <a:srgbClr val="fc012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4800600"/>
            <a:ext cx="0" cy="777960"/>
          </a:xfrm>
          <a:prstGeom prst="line">
            <a:avLst/>
          </a:prstGeom>
          <a:ln w="5076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5333760" y="4572000"/>
            <a:ext cx="547920" cy="274680"/>
            <a:chOff x="5333760" y="4572000"/>
            <a:chExt cx="547920" cy="274680"/>
          </a:xfrm>
        </p:grpSpPr>
        <p:sp>
          <p:nvSpPr>
            <p:cNvPr id="74" name=""/>
            <p:cNvSpPr/>
            <p:nvPr/>
          </p:nvSpPr>
          <p:spPr>
            <a:xfrm>
              <a:off x="5379840" y="457200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79840" y="484668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837040" y="4572000"/>
              <a:ext cx="44640" cy="137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5837040" y="4709880"/>
              <a:ext cx="44640" cy="136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5333760" y="4572000"/>
              <a:ext cx="45720" cy="137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flipV="1">
              <a:off x="5333760" y="4709880"/>
              <a:ext cx="45720" cy="136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5714640" y="5486400"/>
            <a:ext cx="547560" cy="274680"/>
            <a:chOff x="5714640" y="5486400"/>
            <a:chExt cx="547560" cy="274680"/>
          </a:xfrm>
        </p:grpSpPr>
        <p:sp>
          <p:nvSpPr>
            <p:cNvPr id="81" name=""/>
            <p:cNvSpPr/>
            <p:nvPr/>
          </p:nvSpPr>
          <p:spPr>
            <a:xfrm>
              <a:off x="5760720" y="5486400"/>
              <a:ext cx="456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60720" y="5761080"/>
              <a:ext cx="456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217920" y="5486400"/>
              <a:ext cx="44280" cy="137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6217920" y="5624280"/>
              <a:ext cx="44280" cy="136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5714640" y="5486400"/>
              <a:ext cx="45720" cy="137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 flipV="1">
              <a:off x="5714640" y="5624280"/>
              <a:ext cx="45720" cy="136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3200" y="4572000"/>
            <a:ext cx="2588760" cy="274680"/>
            <a:chOff x="2743200" y="4572000"/>
            <a:chExt cx="2588760" cy="274680"/>
          </a:xfrm>
        </p:grpSpPr>
        <p:grpSp>
          <p:nvGrpSpPr>
            <p:cNvPr id="88" name=""/>
            <p:cNvGrpSpPr/>
            <p:nvPr/>
          </p:nvGrpSpPr>
          <p:grpSpPr>
            <a:xfrm>
              <a:off x="5193720" y="4572000"/>
              <a:ext cx="138240" cy="274320"/>
              <a:chOff x="5193720" y="4572000"/>
              <a:chExt cx="138240" cy="274320"/>
            </a:xfrm>
          </p:grpSpPr>
          <p:sp>
            <p:nvSpPr>
              <p:cNvPr id="89" name=""/>
              <p:cNvSpPr/>
              <p:nvPr/>
            </p:nvSpPr>
            <p:spPr>
              <a:xfrm>
                <a:off x="5193720" y="4572000"/>
                <a:ext cx="138240" cy="136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5193720" y="4708440"/>
                <a:ext cx="138240" cy="137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2743200" y="4572000"/>
              <a:ext cx="144000" cy="274320"/>
              <a:chOff x="2743200" y="4572000"/>
              <a:chExt cx="144000" cy="274320"/>
            </a:xfrm>
          </p:grpSpPr>
          <p:sp>
            <p:nvSpPr>
              <p:cNvPr id="92" name=""/>
              <p:cNvSpPr/>
              <p:nvPr/>
            </p:nvSpPr>
            <p:spPr>
              <a:xfrm flipH="1">
                <a:off x="2743200" y="4572000"/>
                <a:ext cx="144000" cy="136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743200" y="4708440"/>
                <a:ext cx="144000" cy="137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2888280" y="4572000"/>
              <a:ext cx="2305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888280" y="4846680"/>
              <a:ext cx="2305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5486400" y="5029200"/>
            <a:ext cx="92160" cy="274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6691320" y="5029200"/>
            <a:ext cx="700200" cy="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562720" y="5334120"/>
            <a:ext cx="1066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91320" y="4800600"/>
            <a:ext cx="0" cy="777960"/>
          </a:xfrm>
          <a:prstGeom prst="line">
            <a:avLst/>
          </a:prstGeom>
          <a:ln w="5076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781680" y="5638680"/>
            <a:ext cx="1067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905120" y="4572000"/>
            <a:ext cx="822240" cy="274320"/>
            <a:chOff x="1905120" y="4572000"/>
            <a:chExt cx="822240" cy="274320"/>
          </a:xfrm>
        </p:grpSpPr>
        <p:grpSp>
          <p:nvGrpSpPr>
            <p:cNvPr id="102" name=""/>
            <p:cNvGrpSpPr/>
            <p:nvPr/>
          </p:nvGrpSpPr>
          <p:grpSpPr>
            <a:xfrm>
              <a:off x="2682720" y="4572000"/>
              <a:ext cx="44640" cy="274320"/>
              <a:chOff x="2682720" y="4572000"/>
              <a:chExt cx="44640" cy="274320"/>
            </a:xfrm>
          </p:grpSpPr>
          <p:sp>
            <p:nvSpPr>
              <p:cNvPr id="103" name=""/>
              <p:cNvSpPr/>
              <p:nvPr/>
            </p:nvSpPr>
            <p:spPr>
              <a:xfrm>
                <a:off x="2683080" y="4572000"/>
                <a:ext cx="44280" cy="136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>
                <a:off x="2682720" y="4708440"/>
                <a:ext cx="44280" cy="137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1905120" y="4572000"/>
              <a:ext cx="46080" cy="274320"/>
              <a:chOff x="1905120" y="4572000"/>
              <a:chExt cx="46080" cy="274320"/>
            </a:xfrm>
          </p:grpSpPr>
          <p:sp>
            <p:nvSpPr>
              <p:cNvPr id="106" name=""/>
              <p:cNvSpPr/>
              <p:nvPr/>
            </p:nvSpPr>
            <p:spPr>
              <a:xfrm flipH="1">
                <a:off x="1905120" y="4572000"/>
                <a:ext cx="46080" cy="136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905120" y="4708440"/>
                <a:ext cx="46080" cy="137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1951200" y="4572000"/>
              <a:ext cx="731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951200" y="4846320"/>
              <a:ext cx="731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 flipV="1">
            <a:off x="6095880" y="5257440"/>
            <a:ext cx="0" cy="320760"/>
          </a:xfrm>
          <a:prstGeom prst="line">
            <a:avLst/>
          </a:prstGeom>
          <a:ln w="50760">
            <a:solidFill>
              <a:srgbClr val="fc012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5866920" y="4572000"/>
            <a:ext cx="1447200" cy="274680"/>
            <a:chOff x="5866920" y="4572000"/>
            <a:chExt cx="1447200" cy="274680"/>
          </a:xfrm>
        </p:grpSpPr>
        <p:sp>
          <p:nvSpPr>
            <p:cNvPr id="112" name=""/>
            <p:cNvSpPr/>
            <p:nvPr/>
          </p:nvSpPr>
          <p:spPr>
            <a:xfrm>
              <a:off x="5987880" y="4572000"/>
              <a:ext cx="1208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987880" y="4846680"/>
              <a:ext cx="1208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96400" y="4572000"/>
              <a:ext cx="117720" cy="137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7196400" y="4709880"/>
              <a:ext cx="117720" cy="136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5866920" y="4572000"/>
              <a:ext cx="120600" cy="137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 flipV="1">
              <a:off x="5866920" y="4709880"/>
              <a:ext cx="120600" cy="136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5562720" y="4800600"/>
            <a:ext cx="0" cy="320760"/>
          </a:xfrm>
          <a:prstGeom prst="line">
            <a:avLst/>
          </a:prstGeom>
          <a:ln w="50760">
            <a:solidFill>
              <a:srgbClr val="114ff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19920" y="4800600"/>
            <a:ext cx="0" cy="320760"/>
          </a:xfrm>
          <a:prstGeom prst="line">
            <a:avLst/>
          </a:prstGeom>
          <a:ln w="50760">
            <a:solidFill>
              <a:srgbClr val="114ff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248160" y="5486400"/>
            <a:ext cx="547560" cy="274680"/>
            <a:chOff x="6248160" y="5486400"/>
            <a:chExt cx="547560" cy="274680"/>
          </a:xfrm>
        </p:grpSpPr>
        <p:sp>
          <p:nvSpPr>
            <p:cNvPr id="121" name=""/>
            <p:cNvSpPr/>
            <p:nvPr/>
          </p:nvSpPr>
          <p:spPr>
            <a:xfrm>
              <a:off x="6294240" y="5486400"/>
              <a:ext cx="456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294240" y="5761080"/>
              <a:ext cx="456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751440" y="5486400"/>
              <a:ext cx="44280" cy="137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6751440" y="5624280"/>
              <a:ext cx="44280" cy="136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6248160" y="5486400"/>
              <a:ext cx="45720" cy="137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 flipV="1">
              <a:off x="6248160" y="5624280"/>
              <a:ext cx="45720" cy="136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 flipH="1">
            <a:off x="6629400" y="5029200"/>
            <a:ext cx="92160" cy="274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00800" y="4800600"/>
            <a:ext cx="0" cy="777960"/>
          </a:xfrm>
          <a:prstGeom prst="line">
            <a:avLst/>
          </a:prstGeom>
          <a:ln w="5076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629400" y="5257440"/>
            <a:ext cx="0" cy="320760"/>
          </a:xfrm>
          <a:prstGeom prst="line">
            <a:avLst/>
          </a:prstGeom>
          <a:ln w="50760">
            <a:solidFill>
              <a:srgbClr val="fc012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7315200" y="4572000"/>
            <a:ext cx="380880" cy="274680"/>
            <a:chOff x="7315200" y="4572000"/>
            <a:chExt cx="380880" cy="274680"/>
          </a:xfrm>
        </p:grpSpPr>
        <p:sp>
          <p:nvSpPr>
            <p:cNvPr id="131" name=""/>
            <p:cNvSpPr/>
            <p:nvPr/>
          </p:nvSpPr>
          <p:spPr>
            <a:xfrm>
              <a:off x="7346880" y="4572000"/>
              <a:ext cx="317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46880" y="4846680"/>
              <a:ext cx="317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665120" y="4572000"/>
              <a:ext cx="30960" cy="137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7665120" y="4709880"/>
              <a:ext cx="30960" cy="136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7315200" y="4572000"/>
              <a:ext cx="31680" cy="137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 flipV="1">
              <a:off x="7315200" y="4709880"/>
              <a:ext cx="31680" cy="136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7391520" y="5029200"/>
            <a:ext cx="90360" cy="274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7696080" y="4572000"/>
            <a:ext cx="1218600" cy="274680"/>
            <a:chOff x="7696080" y="4572000"/>
            <a:chExt cx="1218600" cy="274680"/>
          </a:xfrm>
        </p:grpSpPr>
        <p:sp>
          <p:nvSpPr>
            <p:cNvPr id="139" name=""/>
            <p:cNvSpPr/>
            <p:nvPr/>
          </p:nvSpPr>
          <p:spPr>
            <a:xfrm>
              <a:off x="7797600" y="4572000"/>
              <a:ext cx="1017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797600" y="4846680"/>
              <a:ext cx="1017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815320" y="4572000"/>
              <a:ext cx="99360" cy="137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8815320" y="4709880"/>
              <a:ext cx="99360" cy="136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7696080" y="4572000"/>
              <a:ext cx="101520" cy="137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flipV="1">
              <a:off x="7696080" y="4709880"/>
              <a:ext cx="101520" cy="136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7848360" y="5486400"/>
            <a:ext cx="547560" cy="274680"/>
            <a:chOff x="7848360" y="5486400"/>
            <a:chExt cx="547560" cy="274680"/>
          </a:xfrm>
        </p:grpSpPr>
        <p:sp>
          <p:nvSpPr>
            <p:cNvPr id="146" name=""/>
            <p:cNvSpPr/>
            <p:nvPr/>
          </p:nvSpPr>
          <p:spPr>
            <a:xfrm>
              <a:off x="7894440" y="5486400"/>
              <a:ext cx="456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894440" y="5761080"/>
              <a:ext cx="456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351640" y="5486400"/>
              <a:ext cx="44280" cy="137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8351640" y="5624280"/>
              <a:ext cx="44280" cy="136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7848360" y="5486400"/>
              <a:ext cx="45720" cy="137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 flipV="1">
              <a:off x="7848360" y="5624280"/>
              <a:ext cx="45720" cy="136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7467480" y="5334120"/>
            <a:ext cx="685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8153280" y="5029200"/>
            <a:ext cx="92160" cy="274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8229600" y="5029200"/>
            <a:ext cx="700200" cy="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5181480"/>
            <a:ext cx="92160" cy="274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001000" y="4800600"/>
            <a:ext cx="0" cy="777960"/>
          </a:xfrm>
          <a:prstGeom prst="line">
            <a:avLst/>
          </a:prstGeom>
          <a:ln w="5076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8229600" y="5257440"/>
            <a:ext cx="0" cy="320760"/>
          </a:xfrm>
          <a:prstGeom prst="line">
            <a:avLst/>
          </a:prstGeom>
          <a:ln w="50760">
            <a:solidFill>
              <a:srgbClr val="fc012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715000" y="4952880"/>
            <a:ext cx="0" cy="320760"/>
          </a:xfrm>
          <a:prstGeom prst="line">
            <a:avLst/>
          </a:prstGeom>
          <a:ln w="50760">
            <a:solidFill>
              <a:srgbClr val="114ff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467480" y="4800600"/>
            <a:ext cx="0" cy="320760"/>
          </a:xfrm>
          <a:prstGeom prst="line">
            <a:avLst/>
          </a:prstGeom>
          <a:ln w="50760">
            <a:solidFill>
              <a:srgbClr val="114ff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81880" y="56386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517680" y="345960"/>
            <a:ext cx="7948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-TH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Thermistor Sig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Thermistor signal for safety circuit of system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And, use for battery detection for system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10Kohm at 25degC (103AT type) Thermistor connect to 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and BATT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99320" y="6324480"/>
            <a:ext cx="116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HITACHI, Lt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517680" y="345960"/>
            <a:ext cx="79484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LOWBAT#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 Battery Alarm Sig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 Battery Alarm Signal for system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ignal does ”Terminate discharge Alarm Flag" and the synchronize and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-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Inactive Terminate discharge alarm Fla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ttery pack can supply it with a condition of  1C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 seconds or mor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Active Terminate discharge alarm Fla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ttery pack can not supply it with a condition of 1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ten seconds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99320" y="6324480"/>
            <a:ext cx="116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HITACHI, Lt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220760" y="1254240"/>
            <a:ext cx="6702480" cy="43527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821160" y="650880"/>
            <a:ext cx="236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C Specific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99320" y="6324480"/>
            <a:ext cx="116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HITACHI, Lt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1T11:02:24Z</dcterms:created>
  <dc:creator>YOSUKE.KONAKA</dc:creator>
  <dc:description/>
  <dc:language>en-US</dc:language>
  <cp:lastModifiedBy>YOSUKE.KONAKA</cp:lastModifiedBy>
  <dcterms:modified xsi:type="dcterms:W3CDTF">1998-10-22T17:19:14Z</dcterms:modified>
  <cp:revision>12</cp:revision>
  <dc:subject/>
  <dc:title>ｽﾗｲﾄﾞ ﾀｲﾄﾙなし</dc:title>
</cp:coreProperties>
</file>