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DD2-6AA4-4849-B008-1CC20DB3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608-D692-47C7-95A5-D3883873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BD8-CC67-4DEC-9ABB-13CABF1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47F-FB4F-4E35-A9CC-27FD0A4E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6D7-F176-44E0-A17F-86199A6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997-96B5-4CAD-B7A7-8F2FE359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9F9-B265-467D-8CE7-2939B22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758-BD43-4884-9778-9A81B398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7E2-3226-4781-921F-822132B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A93-435F-4C3A-AC0B-1E116AB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85F-C58D-481E-96E9-9A871A9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860-9620-4C88-8B40-387982C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59D8-8C13-4948-BE96-1AF8ECE4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3240" y="806400"/>
            <a:ext cx="63849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8-Signal Smart Battery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８信号バッテリ制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Oct-23-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Yosuke Konaka/Hitachi,Ltd. P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konaka@ebina.hitachi.co.j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41000" y="1173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4905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52280"/>
            <a:ext cx="8632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 need “INT#”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ぜ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NT#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信号が必要な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 battery pack supports "INT#" signal, the system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an acquire a change of a flag at real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もし、割込信号をｻﾎﾟｰﾄすれば、装置側はﾘｱﾙﾀｲﾑにﾌﾗｸﾞ情報の変化を取得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In the device side,Can lengthen an interval of p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ﾚｼﾞｽﾀﾎﾟｰﾘﾝｸﾞ間隔を広げることが可能になる。（バッテリ消費電力／装置側不可の低減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an acquire critical condition at real-time even if do not u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road cast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ｸﾘﾃｨｶﾙｺﾝﾃﾞｨｼｮﾝの発生をﾌﾞﾛｰﾄﾞｷｬｽﾄを受けなくても取得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an use Standard I/O port for SMBus I/F, If do not use the 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ast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ﾌﾞﾛｰﾄﾞｷｬｽﾄを使用しないｼｽﾃﾑでは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Bu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ﾎﾟｰﾄにﾏｲｺﾝの標準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ﾎﾟｰﾄが使用可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an acquire condition change of battery sur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ｺﾝﾃﾞｨｼｮﾝの変化を確実に取得できる（取りこぼし無し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52280"/>
            <a:ext cx="8632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 need “LOBAT#”Signal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ぜ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LOBAT#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信号が必要な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chemistry  and constitution, the Suspend voltage is different, but cannot acquire the stop voltage from information of SMBus slav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side must monitoring battery voltage by system side A/D converter. And System side had suspend voltage table for each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バッテリケミストリや構成毎にｻｽﾍﾟﾝﾄﾞ電圧は異なり、そのｻｽﾍﾟﾝﾄﾞ電圧は、バッテリから取得でき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は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ｺﾝﾊﾞｰﾀでバッテリ電圧を監視し、バッテリ種毎にｻｽﾍﾟﾝﾄﾞ移行電圧ﾃｰﾌﾞﾙを持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no need Suspend volatg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は、バッテリ種毎にｻｽﾍﾟﾝﾄﾞ移行電圧ﾃｰﾌﾞﾙは必要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no need A/D converter for detect suspend vol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は、ｻｽﾍﾟﾝﾄﾞ移行電圧検出用の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ｺﾝﾊﾞｰﾀを持つ必要が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can support future type battery, If no change system side controller.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側の変更をしなくても将来のバッテリに対応でき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7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4800" y="1835280"/>
            <a:ext cx="596880" cy="672840"/>
          </a:xfrm>
          <a:prstGeom prst="rect">
            <a:avLst/>
          </a:prstGeom>
          <a:gradFill rotWithShape="0">
            <a:gsLst>
              <a:gs pos="0">
                <a:srgbClr val="b1b16a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B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lication-Fi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02040" y="2673360"/>
            <a:ext cx="2628720" cy="2120760"/>
          </a:xfrm>
          <a:prstGeom prst="rect">
            <a:avLst/>
          </a:prstGeom>
          <a:gradFill rotWithShape="0">
            <a:gsLst>
              <a:gs pos="0">
                <a:srgbClr val="b16a6a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00240" y="1905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22400" y="1860480"/>
            <a:ext cx="179280" cy="98640"/>
            <a:chOff x="1922400" y="1860480"/>
            <a:chExt cx="179280" cy="98640"/>
          </a:xfrm>
        </p:grpSpPr>
        <p:sp>
          <p:nvSpPr>
            <p:cNvPr id="180" name=""/>
            <p:cNvSpPr/>
            <p:nvPr/>
          </p:nvSpPr>
          <p:spPr>
            <a:xfrm>
              <a:off x="1976400" y="18604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6400" y="186048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6400" y="19573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7680" y="18604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5" y="0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8" y="11"/>
                  </a:lnTo>
                  <a:lnTo>
                    <a:pt x="33" y="22"/>
                  </a:lnTo>
                  <a:lnTo>
                    <a:pt x="3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7680" y="19051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3" y="0"/>
                  </a:moveTo>
                  <a:lnTo>
                    <a:pt x="33" y="11"/>
                  </a:lnTo>
                  <a:lnTo>
                    <a:pt x="28" y="22"/>
                  </a:lnTo>
                  <a:lnTo>
                    <a:pt x="22" y="22"/>
                  </a:lnTo>
                  <a:lnTo>
                    <a:pt x="16" y="28"/>
                  </a:lnTo>
                  <a:lnTo>
                    <a:pt x="5" y="33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922400" y="188604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922400" y="19303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312264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57984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352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264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79840" y="3124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212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616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124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1240" y="3200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6320" y="35053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73176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6320" y="4044960"/>
            <a:ext cx="901440" cy="520560"/>
          </a:xfrm>
          <a:prstGeom prst="rect">
            <a:avLst/>
          </a:prstGeom>
          <a:gradFill rotWithShape="0">
            <a:gsLst>
              <a:gs pos="0">
                <a:srgbClr val="8f8f8f"/>
              </a:gs>
              <a:gs pos="100000">
                <a:srgbClr val="ce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7040" y="18669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321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564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713200" y="2057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0920" y="1447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018120" y="1752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323040" y="17521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5840" y="20570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5320" y="22860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17360" y="3473280"/>
            <a:ext cx="219240" cy="63720"/>
            <a:chOff x="2817360" y="3473280"/>
            <a:chExt cx="219240" cy="63720"/>
          </a:xfrm>
        </p:grpSpPr>
        <p:sp>
          <p:nvSpPr>
            <p:cNvPr id="210" name=""/>
            <p:cNvSpPr/>
            <p:nvPr/>
          </p:nvSpPr>
          <p:spPr>
            <a:xfrm>
              <a:off x="2973240" y="347328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817360" y="350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81772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1760" y="1519200"/>
            <a:ext cx="45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W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72120" y="3359160"/>
            <a:ext cx="291960" cy="139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4040" y="175248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5200" y="17524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99160" y="1752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6720" y="175248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7720" y="3733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9120" y="3359160"/>
            <a:ext cx="444240" cy="29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S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43520" y="3740040"/>
            <a:ext cx="291960" cy="139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5280" y="3968640"/>
            <a:ext cx="679680" cy="59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Multi Plex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5280" y="3511440"/>
            <a:ext cx="749520" cy="292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ec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90880" y="4121280"/>
            <a:ext cx="520920" cy="139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8-bit D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9120" y="4197240"/>
            <a:ext cx="368280" cy="292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62280" y="4349880"/>
            <a:ext cx="749520" cy="139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6680" y="2749680"/>
            <a:ext cx="97812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charge Cur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ec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5280" y="3130560"/>
            <a:ext cx="74952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Cur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ec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0680" y="1562040"/>
            <a:ext cx="609840" cy="647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da4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1835280"/>
            <a:ext cx="292320" cy="368280"/>
          </a:xfrm>
          <a:prstGeom prst="rect">
            <a:avLst/>
          </a:prstGeom>
          <a:gradFill rotWithShape="0">
            <a:gsLst>
              <a:gs pos="0">
                <a:srgbClr val="8f8f8f"/>
              </a:gs>
              <a:gs pos="100000">
                <a:srgbClr val="ce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43040" y="1484280"/>
            <a:ext cx="118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mart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4640" y="2514600"/>
            <a:ext cx="1440" cy="320040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6000" y="5715000"/>
            <a:ext cx="541008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38080" y="519912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7360" y="441972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A-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5400" y="5187960"/>
            <a:ext cx="1282680" cy="901800"/>
          </a:xfrm>
          <a:prstGeom prst="rect">
            <a:avLst/>
          </a:prstGeom>
          <a:gradFill rotWithShape="0">
            <a:gsLst>
              <a:gs pos="0">
                <a:srgbClr val="8f8f8f"/>
              </a:gs>
              <a:gs pos="100000">
                <a:srgbClr val="ce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BC/EC/B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54864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46920" y="2743200"/>
            <a:ext cx="60984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5867280"/>
            <a:ext cx="556272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6668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99"/>
                </a:solidFill>
                <a:latin typeface="Arial"/>
              </a:rPr>
              <a:t>M622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99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6920" y="2743200"/>
            <a:ext cx="1800" cy="312408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1760" y="36576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1760" y="37339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1760" y="38098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41760" y="3812760"/>
            <a:ext cx="3780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779560" y="3812760"/>
            <a:ext cx="3816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7720" y="3812760"/>
            <a:ext cx="3816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17360" y="4464000"/>
            <a:ext cx="219240" cy="63720"/>
            <a:chOff x="2817360" y="4464000"/>
            <a:chExt cx="219240" cy="63720"/>
          </a:xfrm>
        </p:grpSpPr>
        <p:sp>
          <p:nvSpPr>
            <p:cNvPr id="249" name=""/>
            <p:cNvSpPr/>
            <p:nvPr/>
          </p:nvSpPr>
          <p:spPr>
            <a:xfrm>
              <a:off x="2973240" y="446400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17360" y="4495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817720" y="4495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741760" y="4648320"/>
            <a:ext cx="152280" cy="75600"/>
            <a:chOff x="2741760" y="4648320"/>
            <a:chExt cx="152280" cy="75600"/>
          </a:xfrm>
        </p:grpSpPr>
        <p:sp>
          <p:nvSpPr>
            <p:cNvPr id="253" name=""/>
            <p:cNvSpPr/>
            <p:nvPr/>
          </p:nvSpPr>
          <p:spPr>
            <a:xfrm>
              <a:off x="2741760" y="46483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741760" y="46508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779920" y="46508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818080" y="46508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V="1">
            <a:off x="3274920" y="40384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36760" y="3965400"/>
            <a:ext cx="78120" cy="7812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0" y="48"/>
                </a:lnTo>
                <a:lnTo>
                  <a:pt x="48" y="48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38680" y="3672000"/>
            <a:ext cx="74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To Inter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ＭＳ Ｐゴシック"/>
              </a:rPr>
              <a:t>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74960" y="47689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8440" y="4647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0280" y="457524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0" y="48"/>
                </a:lnTo>
                <a:lnTo>
                  <a:pt x="48" y="48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808440" y="4836960"/>
            <a:ext cx="144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89320" y="39621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1160" y="3889440"/>
            <a:ext cx="7812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0" y="48"/>
                </a:lnTo>
                <a:lnTo>
                  <a:pt x="48" y="48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2120" y="3581280"/>
            <a:ext cx="23040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144" y="0"/>
                </a:moveTo>
                <a:lnTo>
                  <a:pt x="0" y="96"/>
                </a:lnTo>
                <a:lnTo>
                  <a:pt x="144" y="192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960720" y="380988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0720" y="3200400"/>
            <a:ext cx="23040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144" y="0"/>
                </a:moveTo>
                <a:lnTo>
                  <a:pt x="0" y="96"/>
                </a:lnTo>
                <a:lnTo>
                  <a:pt x="144" y="192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17920" y="358092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79760" y="3508200"/>
            <a:ext cx="78120" cy="7812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0" y="48"/>
                </a:lnTo>
                <a:lnTo>
                  <a:pt x="48" y="48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189320" y="34290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341600" y="396252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1960" y="39625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655800" y="373392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2895480"/>
            <a:ext cx="311040" cy="230400"/>
          </a:xfrm>
          <a:custGeom>
            <a:avLst/>
            <a:gdLst/>
            <a:ahLst/>
            <a:rect l="l" t="t" r="r" b="b"/>
            <a:pathLst>
              <a:path w="196" h="145">
                <a:moveTo>
                  <a:pt x="99" y="0"/>
                </a:moveTo>
                <a:lnTo>
                  <a:pt x="0" y="144"/>
                </a:lnTo>
                <a:lnTo>
                  <a:pt x="195" y="144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89320" y="32767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0720" y="36576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103720" y="4572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65560" y="4684680"/>
            <a:ext cx="7812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48"/>
                </a:moveTo>
                <a:lnTo>
                  <a:pt x="0" y="0"/>
                </a:lnTo>
                <a:lnTo>
                  <a:pt x="48" y="0"/>
                </a:lnTo>
                <a:lnTo>
                  <a:pt x="24" y="4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70600" y="476892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3720" y="4836960"/>
            <a:ext cx="1800" cy="64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4240" y="4419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2840" y="438156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24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6520" y="30481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2840" y="42292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24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2840" y="407664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24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284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6520" y="38862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6520" y="38862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6520" y="4114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570200" y="380988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0560" y="3809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0560" y="42670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84680" y="32385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03760" y="44640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3760" y="43117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03760" y="415908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03760" y="40068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4960" y="4000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48" y="0"/>
                </a:moveTo>
                <a:lnTo>
                  <a:pt x="0" y="24"/>
                </a:lnTo>
                <a:lnTo>
                  <a:pt x="48" y="48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4960" y="415296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48" y="0"/>
                </a:moveTo>
                <a:lnTo>
                  <a:pt x="0" y="24"/>
                </a:lnTo>
                <a:lnTo>
                  <a:pt x="48" y="48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4960" y="430524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48" y="0"/>
                </a:moveTo>
                <a:lnTo>
                  <a:pt x="0" y="24"/>
                </a:lnTo>
                <a:lnTo>
                  <a:pt x="48" y="48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4960" y="44578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48" y="0"/>
                </a:moveTo>
                <a:lnTo>
                  <a:pt x="0" y="24"/>
                </a:lnTo>
                <a:lnTo>
                  <a:pt x="48" y="48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9480" y="419112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9480" y="43434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59480" y="44956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59480" y="4038480"/>
            <a:ext cx="91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03760" y="33210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03760" y="31687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03760" y="36259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59480" y="3657600"/>
            <a:ext cx="30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59480" y="3352680"/>
            <a:ext cx="76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59480" y="3200400"/>
            <a:ext cx="45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22680" y="26352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99200" y="26352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89160" y="26352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513160" y="2209680"/>
            <a:ext cx="152280" cy="152280"/>
            <a:chOff x="2513160" y="2209680"/>
            <a:chExt cx="152280" cy="152280"/>
          </a:xfrm>
        </p:grpSpPr>
        <p:sp>
          <p:nvSpPr>
            <p:cNvPr id="317" name=""/>
            <p:cNvSpPr/>
            <p:nvPr/>
          </p:nvSpPr>
          <p:spPr>
            <a:xfrm>
              <a:off x="2589480" y="2209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3160" y="22860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51316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55132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58948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274920" y="2209680"/>
            <a:ext cx="152280" cy="152280"/>
            <a:chOff x="3274920" y="2209680"/>
            <a:chExt cx="152280" cy="152280"/>
          </a:xfrm>
        </p:grpSpPr>
        <p:sp>
          <p:nvSpPr>
            <p:cNvPr id="323" name=""/>
            <p:cNvSpPr/>
            <p:nvPr/>
          </p:nvSpPr>
          <p:spPr>
            <a:xfrm>
              <a:off x="3350880" y="2209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4920" y="22860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27492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313080" y="228888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35088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540240" y="17146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99000" y="17208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440" y="2017800"/>
            <a:ext cx="15408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24"/>
                </a:moveTo>
                <a:lnTo>
                  <a:pt x="10" y="0"/>
                </a:lnTo>
                <a:lnTo>
                  <a:pt x="29" y="48"/>
                </a:lnTo>
                <a:lnTo>
                  <a:pt x="43" y="0"/>
                </a:lnTo>
                <a:lnTo>
                  <a:pt x="58" y="48"/>
                </a:lnTo>
                <a:lnTo>
                  <a:pt x="72" y="0"/>
                </a:lnTo>
                <a:lnTo>
                  <a:pt x="86" y="48"/>
                </a:lnTo>
                <a:lnTo>
                  <a:pt x="96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2120" y="20588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0720" y="20588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9744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7340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0720" y="182880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997440" y="186696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89320" y="1905120"/>
            <a:ext cx="15408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564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189320" y="2209680"/>
            <a:ext cx="152280" cy="75960"/>
            <a:chOff x="4189320" y="2209680"/>
            <a:chExt cx="152280" cy="75960"/>
          </a:xfrm>
        </p:grpSpPr>
        <p:sp>
          <p:nvSpPr>
            <p:cNvPr id="340" name=""/>
            <p:cNvSpPr/>
            <p:nvPr/>
          </p:nvSpPr>
          <p:spPr>
            <a:xfrm>
              <a:off x="4189320" y="22096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18932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27480" y="221256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26528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189320" y="19051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26040" y="17146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03560" y="20257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799160" y="1981080"/>
            <a:ext cx="134640" cy="39960"/>
            <a:chOff x="4799160" y="1981080"/>
            <a:chExt cx="134640" cy="39960"/>
          </a:xfrm>
        </p:grpSpPr>
        <p:grpSp>
          <p:nvGrpSpPr>
            <p:cNvPr id="348" name=""/>
            <p:cNvGrpSpPr/>
            <p:nvPr/>
          </p:nvGrpSpPr>
          <p:grpSpPr>
            <a:xfrm>
              <a:off x="4817880" y="1981080"/>
              <a:ext cx="99360" cy="39960"/>
              <a:chOff x="4817880" y="1981080"/>
              <a:chExt cx="99360" cy="3996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4817880" y="1981080"/>
                <a:ext cx="3312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4850640" y="1981080"/>
                <a:ext cx="3276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884120" y="1981080"/>
                <a:ext cx="3312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4799160" y="198108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99160" y="202104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42440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0072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668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5300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51440" y="1906560"/>
            <a:ext cx="76320" cy="76320"/>
            <a:chOff x="4951440" y="1906560"/>
            <a:chExt cx="76320" cy="76320"/>
          </a:xfrm>
        </p:grpSpPr>
        <p:sp>
          <p:nvSpPr>
            <p:cNvPr id="359" name=""/>
            <p:cNvSpPr/>
            <p:nvPr/>
          </p:nvSpPr>
          <p:spPr>
            <a:xfrm>
              <a:off x="4951440" y="19447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89600" y="190656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027760" y="1676520"/>
            <a:ext cx="15372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48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0040" y="16765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75120" y="1752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799160" y="2209680"/>
            <a:ext cx="152280" cy="75960"/>
            <a:chOff x="4799160" y="2209680"/>
            <a:chExt cx="152280" cy="75960"/>
          </a:xfrm>
        </p:grpSpPr>
        <p:sp>
          <p:nvSpPr>
            <p:cNvPr id="365" name=""/>
            <p:cNvSpPr/>
            <p:nvPr/>
          </p:nvSpPr>
          <p:spPr>
            <a:xfrm>
              <a:off x="4799160" y="22096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79916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3732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87548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875120" y="20210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6360" y="1447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76840" y="1828800"/>
            <a:ext cx="77760" cy="15408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76840" y="2133720"/>
            <a:ext cx="77760" cy="15372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440" y="1712880"/>
            <a:ext cx="15408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24"/>
                </a:moveTo>
                <a:lnTo>
                  <a:pt x="10" y="0"/>
                </a:lnTo>
                <a:lnTo>
                  <a:pt x="29" y="48"/>
                </a:lnTo>
                <a:lnTo>
                  <a:pt x="43" y="0"/>
                </a:lnTo>
                <a:lnTo>
                  <a:pt x="58" y="48"/>
                </a:lnTo>
                <a:lnTo>
                  <a:pt x="72" y="0"/>
                </a:lnTo>
                <a:lnTo>
                  <a:pt x="86" y="48"/>
                </a:lnTo>
                <a:lnTo>
                  <a:pt x="96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004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4960" y="144792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7360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7852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8488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637240" y="2362320"/>
            <a:ext cx="152280" cy="75600"/>
            <a:chOff x="5637240" y="2362320"/>
            <a:chExt cx="152280" cy="75600"/>
          </a:xfrm>
        </p:grpSpPr>
        <p:sp>
          <p:nvSpPr>
            <p:cNvPr id="380" name=""/>
            <p:cNvSpPr/>
            <p:nvPr/>
          </p:nvSpPr>
          <p:spPr>
            <a:xfrm>
              <a:off x="5637240" y="23623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637240" y="23648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675040" y="23648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713200" y="23648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71356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3560" y="1752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3552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144792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2320" y="1407960"/>
            <a:ext cx="154080" cy="7812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24"/>
                </a:moveTo>
                <a:lnTo>
                  <a:pt x="10" y="0"/>
                </a:lnTo>
                <a:lnTo>
                  <a:pt x="29" y="48"/>
                </a:lnTo>
                <a:lnTo>
                  <a:pt x="43" y="0"/>
                </a:lnTo>
                <a:lnTo>
                  <a:pt x="58" y="48"/>
                </a:lnTo>
                <a:lnTo>
                  <a:pt x="72" y="0"/>
                </a:lnTo>
                <a:lnTo>
                  <a:pt x="86" y="48"/>
                </a:lnTo>
                <a:lnTo>
                  <a:pt x="96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87476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16400" y="14097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21320" y="14097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331960" y="2590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26352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23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51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73600" y="201924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796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91240" y="2057400"/>
            <a:ext cx="77760" cy="15408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91240" y="2362320"/>
            <a:ext cx="77760" cy="15372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45200" y="19432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51640" y="2590920"/>
            <a:ext cx="152280" cy="75600"/>
            <a:chOff x="6551640" y="2590920"/>
            <a:chExt cx="152280" cy="75600"/>
          </a:xfrm>
        </p:grpSpPr>
        <p:sp>
          <p:nvSpPr>
            <p:cNvPr id="402" name=""/>
            <p:cNvSpPr/>
            <p:nvPr/>
          </p:nvSpPr>
          <p:spPr>
            <a:xfrm>
              <a:off x="6551640" y="25909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55164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58944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62760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627960" y="2514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7960" y="1981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0" y="224784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47532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419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9292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6924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6560" y="1828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892560" y="1866960"/>
            <a:ext cx="79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73800" y="17524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9784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7380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1120" y="182880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7197840" y="186696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69240" y="17510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89720" y="1447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13760" y="152388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3760" y="1523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5160" y="1752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01120" y="1911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42080" y="18669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7960" y="198108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60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32520" y="1866960"/>
            <a:ext cx="0" cy="278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37440" y="1866960"/>
            <a:ext cx="0" cy="2857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01120" y="2216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42080" y="21718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01120" y="2368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42080" y="23241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0" y="56386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2160" y="4648320"/>
            <a:ext cx="144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8120" y="4724280"/>
            <a:ext cx="18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42160" y="464832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18120" y="47242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389720" y="2590920"/>
            <a:ext cx="152280" cy="75600"/>
            <a:chOff x="7389720" y="2590920"/>
            <a:chExt cx="152280" cy="75600"/>
          </a:xfrm>
        </p:grpSpPr>
        <p:sp>
          <p:nvSpPr>
            <p:cNvPr id="441" name=""/>
            <p:cNvSpPr/>
            <p:nvPr/>
          </p:nvSpPr>
          <p:spPr>
            <a:xfrm>
              <a:off x="7389720" y="25909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389720" y="25934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2788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465680" y="25934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746604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4520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62880" y="2368440"/>
            <a:ext cx="596880" cy="673200"/>
          </a:xfrm>
          <a:prstGeom prst="rect">
            <a:avLst/>
          </a:prstGeom>
          <a:gradFill rotWithShape="0">
            <a:gsLst>
              <a:gs pos="0">
                <a:srgbClr val="b1b16a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B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539200" y="2444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80520" y="2400480"/>
            <a:ext cx="18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539200" y="2749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480520" y="2705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539200" y="2901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480520" y="28576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198960" y="11426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2640" y="1523880"/>
            <a:ext cx="15408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2640" y="15238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59000" y="14097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11560" y="1214280"/>
            <a:ext cx="70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17760" y="47689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351240" y="4495320"/>
            <a:ext cx="144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85640" y="5334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71840" y="4038480"/>
            <a:ext cx="412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B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656160" y="25146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6160" y="2514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95280" y="4648320"/>
            <a:ext cx="0" cy="5331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285640" y="541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5562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4800" y="1835280"/>
            <a:ext cx="596880" cy="672840"/>
          </a:xfrm>
          <a:prstGeom prst="rect">
            <a:avLst/>
          </a:prstGeom>
          <a:gradFill rotWithShape="0">
            <a:gsLst>
              <a:gs pos="0">
                <a:srgbClr val="b1b16a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B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152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lication-Fi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100240" y="1905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922400" y="1860480"/>
            <a:ext cx="179280" cy="98640"/>
            <a:chOff x="1922400" y="1860480"/>
            <a:chExt cx="179280" cy="98640"/>
          </a:xfrm>
        </p:grpSpPr>
        <p:sp>
          <p:nvSpPr>
            <p:cNvPr id="472" name=""/>
            <p:cNvSpPr/>
            <p:nvPr/>
          </p:nvSpPr>
          <p:spPr>
            <a:xfrm>
              <a:off x="1976400" y="18604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76400" y="186048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6400" y="19573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47680" y="18604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5" y="0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8" y="11"/>
                  </a:lnTo>
                  <a:lnTo>
                    <a:pt x="33" y="22"/>
                  </a:lnTo>
                  <a:lnTo>
                    <a:pt x="3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47680" y="19051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3" y="0"/>
                  </a:moveTo>
                  <a:lnTo>
                    <a:pt x="33" y="11"/>
                  </a:lnTo>
                  <a:lnTo>
                    <a:pt x="28" y="22"/>
                  </a:lnTo>
                  <a:lnTo>
                    <a:pt x="22" y="22"/>
                  </a:lnTo>
                  <a:lnTo>
                    <a:pt x="16" y="28"/>
                  </a:lnTo>
                  <a:lnTo>
                    <a:pt x="5" y="33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922400" y="188604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922400" y="19303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H="1">
            <a:off x="312264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7984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352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264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37040" y="18669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21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564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356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713200" y="2057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560920" y="1447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018120" y="1752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6323040" y="17521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865840" y="20570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475320" y="22860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817360" y="3473280"/>
            <a:ext cx="219240" cy="63720"/>
            <a:chOff x="2817360" y="3473280"/>
            <a:chExt cx="219240" cy="63720"/>
          </a:xfrm>
        </p:grpSpPr>
        <p:sp>
          <p:nvSpPr>
            <p:cNvPr id="494" name=""/>
            <p:cNvSpPr/>
            <p:nvPr/>
          </p:nvSpPr>
          <p:spPr>
            <a:xfrm>
              <a:off x="2973240" y="347328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2817360" y="350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81772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21760" y="1519200"/>
            <a:ext cx="45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W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4040" y="175248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75200" y="17524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99160" y="1752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6720" y="175248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7720" y="3733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90680" y="1562040"/>
            <a:ext cx="609840" cy="647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da4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5080" y="1835280"/>
            <a:ext cx="292320" cy="368280"/>
          </a:xfrm>
          <a:prstGeom prst="rect">
            <a:avLst/>
          </a:prstGeom>
          <a:gradFill rotWithShape="0">
            <a:gsLst>
              <a:gs pos="0">
                <a:srgbClr val="8f8f8f"/>
              </a:gs>
              <a:gs pos="100000">
                <a:srgbClr val="ce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43040" y="1484280"/>
            <a:ext cx="118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mart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6324480"/>
            <a:ext cx="243828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4640" y="2514600"/>
            <a:ext cx="1440" cy="320040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876560" y="5715000"/>
            <a:ext cx="281916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10000" y="5187960"/>
            <a:ext cx="1359000" cy="901800"/>
          </a:xfrm>
          <a:prstGeom prst="rect">
            <a:avLst/>
          </a:prstGeom>
          <a:gradFill rotWithShape="0">
            <a:gsLst>
              <a:gs pos="0">
                <a:srgbClr val="8db18d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7515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38080" y="519912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00440" y="5199120"/>
            <a:ext cx="36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90200" y="60958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ja-JP" sz="1200" spc="-1" strike="noStrike">
                <a:solidFill>
                  <a:srgbClr val="ccffcc"/>
                </a:solidFill>
                <a:latin typeface="Arial"/>
              </a:rPr>
              <a:t>S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42600" y="4842000"/>
            <a:ext cx="30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7360" y="441972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A-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95400" y="5187960"/>
            <a:ext cx="1282680" cy="901800"/>
          </a:xfrm>
          <a:prstGeom prst="rect">
            <a:avLst/>
          </a:prstGeom>
          <a:gradFill rotWithShape="0">
            <a:gsLst>
              <a:gs pos="0">
                <a:srgbClr val="8f8f8f"/>
              </a:gs>
              <a:gs pos="100000">
                <a:srgbClr val="cecec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BC/E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41800" y="6058080"/>
            <a:ext cx="0" cy="27612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74720" y="6095880"/>
            <a:ext cx="0" cy="22860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5120" y="5257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46920" y="2743200"/>
            <a:ext cx="60984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76920" y="5867280"/>
            <a:ext cx="297180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46920" y="2743200"/>
            <a:ext cx="1800" cy="312408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41760" y="36576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41760" y="37339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1760" y="38098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741760" y="3812760"/>
            <a:ext cx="3780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779560" y="3812760"/>
            <a:ext cx="3816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7720" y="3812760"/>
            <a:ext cx="3816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817360" y="4464000"/>
            <a:ext cx="219240" cy="63720"/>
            <a:chOff x="2817360" y="4464000"/>
            <a:chExt cx="219240" cy="63720"/>
          </a:xfrm>
        </p:grpSpPr>
        <p:sp>
          <p:nvSpPr>
            <p:cNvPr id="529" name=""/>
            <p:cNvSpPr/>
            <p:nvPr/>
          </p:nvSpPr>
          <p:spPr>
            <a:xfrm>
              <a:off x="2973240" y="446400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817360" y="4495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817720" y="4495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741760" y="4648320"/>
            <a:ext cx="152280" cy="75600"/>
            <a:chOff x="2741760" y="4648320"/>
            <a:chExt cx="152280" cy="75600"/>
          </a:xfrm>
        </p:grpSpPr>
        <p:sp>
          <p:nvSpPr>
            <p:cNvPr id="533" name=""/>
            <p:cNvSpPr/>
            <p:nvPr/>
          </p:nvSpPr>
          <p:spPr>
            <a:xfrm>
              <a:off x="2741760" y="46483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741760" y="46508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779920" y="46508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818080" y="46508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 flipV="1">
            <a:off x="3808440" y="483660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037040" y="483660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265640" y="483660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32400" y="5108400"/>
            <a:ext cx="77760" cy="7812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48"/>
                </a:moveTo>
                <a:lnTo>
                  <a:pt x="0" y="0"/>
                </a:lnTo>
                <a:lnTo>
                  <a:pt x="48" y="0"/>
                </a:lnTo>
                <a:lnTo>
                  <a:pt x="24" y="4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570560" y="49528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0560" y="4952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03720" y="4836960"/>
            <a:ext cx="0" cy="11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59480" y="4038480"/>
            <a:ext cx="91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59480" y="3657600"/>
            <a:ext cx="30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59480" y="3352680"/>
            <a:ext cx="76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59480" y="3200400"/>
            <a:ext cx="45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22680" y="26352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99200" y="26352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89160" y="26352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513160" y="2209680"/>
            <a:ext cx="152280" cy="152280"/>
            <a:chOff x="2513160" y="2209680"/>
            <a:chExt cx="152280" cy="152280"/>
          </a:xfrm>
        </p:grpSpPr>
        <p:sp>
          <p:nvSpPr>
            <p:cNvPr id="552" name=""/>
            <p:cNvSpPr/>
            <p:nvPr/>
          </p:nvSpPr>
          <p:spPr>
            <a:xfrm>
              <a:off x="2589480" y="2209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13160" y="22860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51316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55132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58948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274920" y="2209680"/>
            <a:ext cx="152280" cy="152280"/>
            <a:chOff x="3274920" y="2209680"/>
            <a:chExt cx="152280" cy="152280"/>
          </a:xfrm>
        </p:grpSpPr>
        <p:sp>
          <p:nvSpPr>
            <p:cNvPr id="558" name=""/>
            <p:cNvSpPr/>
            <p:nvPr/>
          </p:nvSpPr>
          <p:spPr>
            <a:xfrm>
              <a:off x="3350880" y="2209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4920" y="22860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27492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313080" y="228888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350880" y="228888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540240" y="17146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9000" y="17208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8440" y="2017800"/>
            <a:ext cx="15408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24"/>
                </a:moveTo>
                <a:lnTo>
                  <a:pt x="10" y="0"/>
                </a:lnTo>
                <a:lnTo>
                  <a:pt x="29" y="48"/>
                </a:lnTo>
                <a:lnTo>
                  <a:pt x="43" y="0"/>
                </a:lnTo>
                <a:lnTo>
                  <a:pt x="58" y="48"/>
                </a:lnTo>
                <a:lnTo>
                  <a:pt x="72" y="0"/>
                </a:lnTo>
                <a:lnTo>
                  <a:pt x="86" y="48"/>
                </a:lnTo>
                <a:lnTo>
                  <a:pt x="96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32120" y="20588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60720" y="20588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9744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7340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0720" y="182880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997440" y="186696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89320" y="1905120"/>
            <a:ext cx="15408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6564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189320" y="2209680"/>
            <a:ext cx="152280" cy="75960"/>
            <a:chOff x="4189320" y="2209680"/>
            <a:chExt cx="152280" cy="75960"/>
          </a:xfrm>
        </p:grpSpPr>
        <p:sp>
          <p:nvSpPr>
            <p:cNvPr id="575" name=""/>
            <p:cNvSpPr/>
            <p:nvPr/>
          </p:nvSpPr>
          <p:spPr>
            <a:xfrm>
              <a:off x="4189320" y="22096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18932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227480" y="221256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26528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89320" y="19051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26040" y="17146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03560" y="202572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799160" y="1981080"/>
            <a:ext cx="134640" cy="39960"/>
            <a:chOff x="4799160" y="1981080"/>
            <a:chExt cx="134640" cy="39960"/>
          </a:xfrm>
        </p:grpSpPr>
        <p:grpSp>
          <p:nvGrpSpPr>
            <p:cNvPr id="583" name=""/>
            <p:cNvGrpSpPr/>
            <p:nvPr/>
          </p:nvGrpSpPr>
          <p:grpSpPr>
            <a:xfrm>
              <a:off x="4817880" y="1981080"/>
              <a:ext cx="99360" cy="39960"/>
              <a:chOff x="4817880" y="1981080"/>
              <a:chExt cx="99360" cy="39960"/>
            </a:xfrm>
          </p:grpSpPr>
          <p:sp>
            <p:nvSpPr>
              <p:cNvPr id="584" name=""/>
              <p:cNvSpPr/>
              <p:nvPr/>
            </p:nvSpPr>
            <p:spPr>
              <a:xfrm flipH="1">
                <a:off x="4817880" y="1981080"/>
                <a:ext cx="3312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4850640" y="1981080"/>
                <a:ext cx="3276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884120" y="1981080"/>
                <a:ext cx="33120" cy="3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799160" y="198108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99160" y="2021040"/>
              <a:ext cx="13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42440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0072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668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53000" y="1682640"/>
            <a:ext cx="13968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951440" y="1906560"/>
            <a:ext cx="76320" cy="76320"/>
            <a:chOff x="4951440" y="1906560"/>
            <a:chExt cx="76320" cy="76320"/>
          </a:xfrm>
        </p:grpSpPr>
        <p:sp>
          <p:nvSpPr>
            <p:cNvPr id="594" name=""/>
            <p:cNvSpPr/>
            <p:nvPr/>
          </p:nvSpPr>
          <p:spPr>
            <a:xfrm>
              <a:off x="4951440" y="194472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89600" y="190656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027760" y="1676520"/>
            <a:ext cx="15372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48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0040" y="16765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5120" y="1752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799160" y="2209680"/>
            <a:ext cx="152280" cy="75960"/>
            <a:chOff x="4799160" y="2209680"/>
            <a:chExt cx="152280" cy="75960"/>
          </a:xfrm>
        </p:grpSpPr>
        <p:sp>
          <p:nvSpPr>
            <p:cNvPr id="600" name=""/>
            <p:cNvSpPr/>
            <p:nvPr/>
          </p:nvSpPr>
          <p:spPr>
            <a:xfrm>
              <a:off x="4799160" y="22096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79916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483732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75480" y="221256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875120" y="20210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56360" y="1447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76840" y="1828800"/>
            <a:ext cx="77760" cy="15408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76840" y="2133720"/>
            <a:ext cx="77760" cy="15372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94440" y="1712880"/>
            <a:ext cx="15408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24"/>
                </a:moveTo>
                <a:lnTo>
                  <a:pt x="10" y="0"/>
                </a:lnTo>
                <a:lnTo>
                  <a:pt x="29" y="48"/>
                </a:lnTo>
                <a:lnTo>
                  <a:pt x="43" y="0"/>
                </a:lnTo>
                <a:lnTo>
                  <a:pt x="58" y="48"/>
                </a:lnTo>
                <a:lnTo>
                  <a:pt x="72" y="0"/>
                </a:lnTo>
                <a:lnTo>
                  <a:pt x="86" y="48"/>
                </a:lnTo>
                <a:lnTo>
                  <a:pt x="96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8004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4960" y="144792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7360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852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8488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637240" y="2362320"/>
            <a:ext cx="152280" cy="75600"/>
            <a:chOff x="5637240" y="2362320"/>
            <a:chExt cx="152280" cy="75600"/>
          </a:xfrm>
        </p:grpSpPr>
        <p:sp>
          <p:nvSpPr>
            <p:cNvPr id="615" name=""/>
            <p:cNvSpPr/>
            <p:nvPr/>
          </p:nvSpPr>
          <p:spPr>
            <a:xfrm>
              <a:off x="5637240" y="23623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637240" y="23648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675040" y="23648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713200" y="23648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71356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13560" y="1752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3552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98960" y="144792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2320" y="1407960"/>
            <a:ext cx="154080" cy="7812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24"/>
                </a:moveTo>
                <a:lnTo>
                  <a:pt x="10" y="0"/>
                </a:lnTo>
                <a:lnTo>
                  <a:pt x="29" y="48"/>
                </a:lnTo>
                <a:lnTo>
                  <a:pt x="43" y="0"/>
                </a:lnTo>
                <a:lnTo>
                  <a:pt x="58" y="48"/>
                </a:lnTo>
                <a:lnTo>
                  <a:pt x="72" y="0"/>
                </a:lnTo>
                <a:lnTo>
                  <a:pt x="86" y="48"/>
                </a:lnTo>
                <a:lnTo>
                  <a:pt x="96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87476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216400" y="14097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21320" y="14097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331960" y="2590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42000" y="2635200"/>
            <a:ext cx="6336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323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751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73600" y="201924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2796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591240" y="2057400"/>
            <a:ext cx="77760" cy="15408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91240" y="2362320"/>
            <a:ext cx="77760" cy="153720"/>
          </a:xfrm>
          <a:custGeom>
            <a:avLst/>
            <a:gdLst/>
            <a:ahLst/>
            <a:rect l="l" t="t" r="r" b="b"/>
            <a:pathLst>
              <a:path w="49" h="97">
                <a:moveTo>
                  <a:pt x="24" y="96"/>
                </a:moveTo>
                <a:lnTo>
                  <a:pt x="0" y="86"/>
                </a:lnTo>
                <a:lnTo>
                  <a:pt x="48" y="67"/>
                </a:lnTo>
                <a:lnTo>
                  <a:pt x="0" y="53"/>
                </a:lnTo>
                <a:lnTo>
                  <a:pt x="48" y="38"/>
                </a:lnTo>
                <a:lnTo>
                  <a:pt x="0" y="24"/>
                </a:lnTo>
                <a:lnTo>
                  <a:pt x="48" y="1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45200" y="19432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6551640" y="2590920"/>
            <a:ext cx="152280" cy="75600"/>
            <a:chOff x="6551640" y="2590920"/>
            <a:chExt cx="152280" cy="75600"/>
          </a:xfrm>
        </p:grpSpPr>
        <p:sp>
          <p:nvSpPr>
            <p:cNvPr id="637" name=""/>
            <p:cNvSpPr/>
            <p:nvPr/>
          </p:nvSpPr>
          <p:spPr>
            <a:xfrm>
              <a:off x="6551640" y="25909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55164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58944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62760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627960" y="2514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7960" y="1981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88000" y="224784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647532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38680" y="419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9292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924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56560" y="1828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892560" y="1866960"/>
            <a:ext cx="79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73800" y="17524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9784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73800" y="175248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161120" y="182880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197840" y="186696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9240" y="17510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89720" y="1447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13760" y="152388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13760" y="1523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85160" y="1752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701120" y="1911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42080" y="18669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7960" y="198108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4660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32520" y="1866960"/>
            <a:ext cx="0" cy="278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37440" y="1866960"/>
            <a:ext cx="0" cy="2857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701120" y="2216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42080" y="21718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701120" y="2368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42080" y="23241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75120" y="5334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2160" y="46483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18120" y="47242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42160" y="464832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18120" y="47242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7389720" y="2590920"/>
            <a:ext cx="152280" cy="75600"/>
            <a:chOff x="7389720" y="2590920"/>
            <a:chExt cx="152280" cy="75600"/>
          </a:xfrm>
        </p:grpSpPr>
        <p:sp>
          <p:nvSpPr>
            <p:cNvPr id="676" name=""/>
            <p:cNvSpPr/>
            <p:nvPr/>
          </p:nvSpPr>
          <p:spPr>
            <a:xfrm>
              <a:off x="7389720" y="25909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389720" y="25934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427880" y="2593440"/>
              <a:ext cx="3780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7465680" y="2593440"/>
              <a:ext cx="381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46604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045200" y="171468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62880" y="2368440"/>
            <a:ext cx="596880" cy="673200"/>
          </a:xfrm>
          <a:prstGeom prst="rect">
            <a:avLst/>
          </a:prstGeom>
          <a:gradFill rotWithShape="0">
            <a:gsLst>
              <a:gs pos="0">
                <a:srgbClr val="b1b16a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B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539200" y="2444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80520" y="2400480"/>
            <a:ext cx="18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539200" y="2749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80520" y="2705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539200" y="2901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80520" y="28576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198960" y="11426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22640" y="1523880"/>
            <a:ext cx="15408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0"/>
                </a:moveTo>
                <a:lnTo>
                  <a:pt x="0" y="96"/>
                </a:lnTo>
                <a:lnTo>
                  <a:pt x="96" y="96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2640" y="15238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59000" y="140976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11560" y="1214280"/>
            <a:ext cx="70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938680" y="2666880"/>
            <a:ext cx="2728800" cy="2165400"/>
            <a:chOff x="2938680" y="2666880"/>
            <a:chExt cx="2728800" cy="2165400"/>
          </a:xfrm>
        </p:grpSpPr>
        <p:sp>
          <p:nvSpPr>
            <p:cNvPr id="695" name=""/>
            <p:cNvSpPr/>
            <p:nvPr/>
          </p:nvSpPr>
          <p:spPr>
            <a:xfrm>
              <a:off x="3002040" y="2673360"/>
              <a:ext cx="2628720" cy="2120760"/>
            </a:xfrm>
            <a:prstGeom prst="rect">
              <a:avLst/>
            </a:prstGeom>
            <a:gradFill rotWithShape="0">
              <a:gsLst>
                <a:gs pos="0">
                  <a:srgbClr val="b16a6a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79840" y="3124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32120" y="3124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56160" y="31240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1240" y="32004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51240" y="320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3046320" y="35053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3731760" y="3352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86320" y="4044960"/>
              <a:ext cx="901440" cy="52056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cecec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72120" y="3359160"/>
              <a:ext cx="291960" cy="139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29120" y="3359160"/>
              <a:ext cx="444240" cy="290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S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43520" y="3740040"/>
              <a:ext cx="291960" cy="139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800" spc="-1" strike="noStrike" baseline="-25000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05280" y="3968640"/>
              <a:ext cx="679680" cy="596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Multi Plex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Magnif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05280" y="3511440"/>
              <a:ext cx="749520" cy="292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utput Volt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tec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90880" y="4121280"/>
              <a:ext cx="520920" cy="139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8-bit D-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29120" y="4197240"/>
              <a:ext cx="368280" cy="292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62280" y="4349880"/>
              <a:ext cx="749520" cy="139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rol Log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76680" y="2749680"/>
              <a:ext cx="978120" cy="291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charge 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tec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5280" y="3130560"/>
              <a:ext cx="749520" cy="291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 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tec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09880" y="2666880"/>
              <a:ext cx="669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000" spc="-1" strike="noStrike">
                  <a:solidFill>
                    <a:srgbClr val="ffff99"/>
                  </a:solidFill>
                  <a:latin typeface="Arial"/>
                </a:rPr>
                <a:t>M622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000" spc="-1" strike="noStrike">
                  <a:solidFill>
                    <a:srgbClr val="ffff99"/>
                  </a:solidFill>
                  <a:latin typeface="Arial"/>
                </a:rPr>
                <a:t>Cha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274920" y="40384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36760" y="3965400"/>
              <a:ext cx="7812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0" y="48"/>
                  </a:lnTo>
                  <a:lnTo>
                    <a:pt x="48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38680" y="367200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To In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74960" y="47689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808440" y="4647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70280" y="4575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0" y="48"/>
                  </a:lnTo>
                  <a:lnTo>
                    <a:pt x="48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03560" y="47689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037040" y="4647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98880" y="4575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0" y="48"/>
                  </a:lnTo>
                  <a:lnTo>
                    <a:pt x="48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32160" y="47689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265640" y="4647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7480" y="4575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0" y="48"/>
                  </a:lnTo>
                  <a:lnTo>
                    <a:pt x="48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189320" y="396216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1160" y="3889440"/>
              <a:ext cx="7812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0" y="48"/>
                  </a:lnTo>
                  <a:lnTo>
                    <a:pt x="48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32120" y="3581280"/>
              <a:ext cx="23040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0" y="96"/>
                  </a:ln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960720" y="380988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60720" y="3200400"/>
              <a:ext cx="23040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0" y="96"/>
                  </a:ln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17920" y="3580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79760" y="3508200"/>
              <a:ext cx="78120" cy="78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0" y="48"/>
                  </a:lnTo>
                  <a:lnTo>
                    <a:pt x="48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189320" y="34290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341600" y="39625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41960" y="396252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655800" y="37339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98840" y="2895480"/>
              <a:ext cx="311040" cy="230400"/>
            </a:xfrm>
            <a:custGeom>
              <a:avLst/>
              <a:gdLst/>
              <a:ahLst/>
              <a:rect l="l" t="t" r="r" b="b"/>
              <a:pathLst>
                <a:path w="196" h="145">
                  <a:moveTo>
                    <a:pt x="99" y="0"/>
                  </a:moveTo>
                  <a:lnTo>
                    <a:pt x="0" y="144"/>
                  </a:lnTo>
                  <a:lnTo>
                    <a:pt x="195" y="144"/>
                  </a:lnTo>
                  <a:lnTo>
                    <a:pt x="9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9320" y="3276720"/>
              <a:ext cx="6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0720" y="365760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103720" y="4572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65560" y="4684680"/>
              <a:ext cx="7812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8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24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70600" y="476892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94240" y="44197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22840" y="43815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8" y="24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46520" y="3048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22840" y="422928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8" y="24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22840" y="40766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8" y="24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22840" y="32767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6520" y="38862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46520" y="3886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46520" y="4114800"/>
              <a:ext cx="7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570200" y="380988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70560" y="38098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0560" y="42670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84680" y="3238560"/>
              <a:ext cx="7632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03760" y="446400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3760" y="43117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760" y="41590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3760" y="400680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84960" y="400068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24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84960" y="41529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24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84960" y="43052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24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84960" y="445788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24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59480" y="4191120"/>
              <a:ext cx="38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59480" y="4343400"/>
              <a:ext cx="38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59480" y="4495680"/>
              <a:ext cx="38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03760" y="332100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03760" y="31687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03760" y="36259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7760" y="476892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 flipV="1">
            <a:off x="335124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508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7984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71840" y="4038480"/>
            <a:ext cx="412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B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656160" y="25146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6160" y="2514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95280" y="4648320"/>
            <a:ext cx="0" cy="5331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8600"/>
            <a:ext cx="8696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y need “New signal defini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なぜ、新しく信号を定義しなくてはいけないの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Now, the battery pack which had much "Smart Battery"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 produced curr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現在、多くの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art Battery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が市場に対して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art Battery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として存在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But interface signal (internal unit)is different every a type 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しかし、ｲﾝﾀﾌｪｰｽの信号（回路）は、パックの種類毎に異なっ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Internal Alarm Flag condition is not same as every type 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larm Flag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変化する条件も、パックの種類毎に異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To Market, Many vendor release “Smart-Battery Charger”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elector”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But, System has a risk becoming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ost 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市場に多くの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mart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関連の製品が出荷されていますが、“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lag”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変化条件等がこと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る為、単純に組み合わせるには高いリスクが存在しま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ﾊﾞｯﾃﾘﾊﾟｯｸ毎に異なる使用のｺﾝﾄﾛｰﾗを使用しては、ｺｽﾄを圧迫する原因になります。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485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This specification defines “Flag Condition” “Signal Specif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d does not define physical specification, physical connect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in 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この仕様は、ﾌﾗｸﾞの変化条件、信号の仕様を規定するのみで、物理的なｻｲｽﾞ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物理的なｺﾈｸﾀ仕様を示すものではありませ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Many makers get possible to use common battery controller.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-Battery vendor can use same controller for many cust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ﾊﾞｯﾃﾘﾍﾞﾝﾀﾞは、装置ﾕｰｻﾞに対して同じﾌﾟﾗｯﾄﾌｫｰﾑを提供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vendor can use same system side controller with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endor Batt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装置ﾍﾞﾝﾀﾞは、ﾊﾞｯﾃﾘﾍﾞﾝﾀﾞが変わっても、装置側のｺﾝﾄﾛｰﾗには同じものを採用するこ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が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Easy Bu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Cost 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Time to Market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結果、簡単に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B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ｼｽﾃﾑを安価に構築でき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8240" y="422280"/>
            <a:ext cx="74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-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Charge / Discharge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DE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De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MB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MBus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nterrup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BA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 Battery  Alarm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Grou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2280" y="345960"/>
            <a:ext cx="7605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pin Platform had four original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DET#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Detect Signal for Battery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can detect system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w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det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supply power from BATT+ 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pen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ystem not det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not supply power to BATT+ 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disable(block) SMBus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ttery Pack can in to sleep mode for sav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7680" y="345960"/>
            <a:ext cx="794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 Interrupt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 notification interrupt for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pack side detect change Battery Status( ) flag,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signal to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Changed. (Request to read Battery Status ( ) fl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Z:non interrupt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480" y="4556160"/>
            <a:ext cx="16052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lag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1120" y="5048280"/>
            <a:ext cx="538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25920" y="5486400"/>
            <a:ext cx="24584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ad Battery Status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029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029200"/>
            <a:ext cx="9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45040" y="50436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5334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7200" y="5029200"/>
            <a:ext cx="1249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5486400"/>
            <a:ext cx="547560" cy="274680"/>
            <a:chOff x="3962520" y="5486400"/>
            <a:chExt cx="547560" cy="274680"/>
          </a:xfrm>
        </p:grpSpPr>
        <p:sp>
          <p:nvSpPr>
            <p:cNvPr id="62" name=""/>
            <p:cNvSpPr/>
            <p:nvPr/>
          </p:nvSpPr>
          <p:spPr>
            <a:xfrm>
              <a:off x="4008600" y="5486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08600" y="576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6580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46580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962520" y="5486400"/>
              <a:ext cx="460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962520" y="5624280"/>
              <a:ext cx="460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286000" y="56386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6386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9112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3760" y="4572000"/>
            <a:ext cx="547920" cy="274680"/>
            <a:chOff x="5333760" y="4572000"/>
            <a:chExt cx="547920" cy="274680"/>
          </a:xfrm>
        </p:grpSpPr>
        <p:sp>
          <p:nvSpPr>
            <p:cNvPr id="74" name=""/>
            <p:cNvSpPr/>
            <p:nvPr/>
          </p:nvSpPr>
          <p:spPr>
            <a:xfrm>
              <a:off x="537984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79840" y="4846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7040" y="4572000"/>
              <a:ext cx="4464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837040" y="4709880"/>
              <a:ext cx="44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333760" y="45720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333760" y="47098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14640" y="5486400"/>
            <a:ext cx="547560" cy="274680"/>
            <a:chOff x="5714640" y="5486400"/>
            <a:chExt cx="547560" cy="274680"/>
          </a:xfrm>
        </p:grpSpPr>
        <p:sp>
          <p:nvSpPr>
            <p:cNvPr id="81" name=""/>
            <p:cNvSpPr/>
            <p:nvPr/>
          </p:nvSpPr>
          <p:spPr>
            <a:xfrm>
              <a:off x="5760720" y="548640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0720" y="57610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1792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21792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714640" y="54864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5714640" y="56242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3200" y="4572000"/>
            <a:ext cx="2588760" cy="274680"/>
            <a:chOff x="2743200" y="4572000"/>
            <a:chExt cx="2588760" cy="274680"/>
          </a:xfrm>
        </p:grpSpPr>
        <p:grpSp>
          <p:nvGrpSpPr>
            <p:cNvPr id="88" name=""/>
            <p:cNvGrpSpPr/>
            <p:nvPr/>
          </p:nvGrpSpPr>
          <p:grpSpPr>
            <a:xfrm>
              <a:off x="5193720" y="4572000"/>
              <a:ext cx="138240" cy="274320"/>
              <a:chOff x="5193720" y="4572000"/>
              <a:chExt cx="138240" cy="274320"/>
            </a:xfrm>
          </p:grpSpPr>
          <p:sp>
            <p:nvSpPr>
              <p:cNvPr id="89" name=""/>
              <p:cNvSpPr/>
              <p:nvPr/>
            </p:nvSpPr>
            <p:spPr>
              <a:xfrm>
                <a:off x="5193720" y="4572000"/>
                <a:ext cx="13824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193720" y="4708440"/>
                <a:ext cx="13824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43200" y="4572000"/>
              <a:ext cx="144000" cy="274320"/>
              <a:chOff x="2743200" y="4572000"/>
              <a:chExt cx="144000" cy="27432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2743200" y="4572000"/>
                <a:ext cx="14400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43200" y="4708440"/>
                <a:ext cx="14400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2888280" y="4572000"/>
              <a:ext cx="230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8280" y="4846680"/>
              <a:ext cx="230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86400" y="50292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691320" y="5029200"/>
            <a:ext cx="700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53341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5638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05120" y="4572000"/>
            <a:ext cx="822240" cy="274320"/>
            <a:chOff x="1905120" y="4572000"/>
            <a:chExt cx="822240" cy="274320"/>
          </a:xfrm>
        </p:grpSpPr>
        <p:grpSp>
          <p:nvGrpSpPr>
            <p:cNvPr id="102" name=""/>
            <p:cNvGrpSpPr/>
            <p:nvPr/>
          </p:nvGrpSpPr>
          <p:grpSpPr>
            <a:xfrm>
              <a:off x="2682720" y="4572000"/>
              <a:ext cx="44640" cy="274320"/>
              <a:chOff x="2682720" y="4572000"/>
              <a:chExt cx="44640" cy="274320"/>
            </a:xfrm>
          </p:grpSpPr>
          <p:sp>
            <p:nvSpPr>
              <p:cNvPr id="103" name=""/>
              <p:cNvSpPr/>
              <p:nvPr/>
            </p:nvSpPr>
            <p:spPr>
              <a:xfrm>
                <a:off x="2683080" y="4572000"/>
                <a:ext cx="4428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682720" y="4708440"/>
                <a:ext cx="4428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905120" y="4572000"/>
              <a:ext cx="46080" cy="274320"/>
              <a:chOff x="1905120" y="4572000"/>
              <a:chExt cx="46080" cy="27432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1905120" y="4572000"/>
                <a:ext cx="46080" cy="13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5120" y="4708440"/>
                <a:ext cx="46080" cy="13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951200" y="4572000"/>
              <a:ext cx="73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51200" y="4846320"/>
              <a:ext cx="73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V="1">
            <a:off x="609588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866920" y="4572000"/>
            <a:ext cx="1447200" cy="274680"/>
            <a:chOff x="5866920" y="4572000"/>
            <a:chExt cx="1447200" cy="274680"/>
          </a:xfrm>
        </p:grpSpPr>
        <p:sp>
          <p:nvSpPr>
            <p:cNvPr id="112" name=""/>
            <p:cNvSpPr/>
            <p:nvPr/>
          </p:nvSpPr>
          <p:spPr>
            <a:xfrm>
              <a:off x="5987880" y="4572000"/>
              <a:ext cx="12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87880" y="4846680"/>
              <a:ext cx="12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96400" y="4572000"/>
              <a:ext cx="117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96400" y="4709880"/>
              <a:ext cx="117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866920" y="4572000"/>
              <a:ext cx="12060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866920" y="4709880"/>
              <a:ext cx="12060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6272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248160" y="5486400"/>
            <a:ext cx="547560" cy="274680"/>
            <a:chOff x="6248160" y="5486400"/>
            <a:chExt cx="547560" cy="274680"/>
          </a:xfrm>
        </p:grpSpPr>
        <p:sp>
          <p:nvSpPr>
            <p:cNvPr id="121" name=""/>
            <p:cNvSpPr/>
            <p:nvPr/>
          </p:nvSpPr>
          <p:spPr>
            <a:xfrm>
              <a:off x="6294240" y="548640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94240" y="57610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5144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75144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248160" y="54864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248160" y="56242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6629400" y="50292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62940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315200" y="4572000"/>
            <a:ext cx="380880" cy="274680"/>
            <a:chOff x="7315200" y="4572000"/>
            <a:chExt cx="380880" cy="274680"/>
          </a:xfrm>
        </p:grpSpPr>
        <p:sp>
          <p:nvSpPr>
            <p:cNvPr id="131" name=""/>
            <p:cNvSpPr/>
            <p:nvPr/>
          </p:nvSpPr>
          <p:spPr>
            <a:xfrm>
              <a:off x="7346880" y="4572000"/>
              <a:ext cx="31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6880" y="4846680"/>
              <a:ext cx="31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5120" y="4572000"/>
              <a:ext cx="3096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665120" y="4709880"/>
              <a:ext cx="3096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315200" y="4572000"/>
              <a:ext cx="316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315200" y="4709880"/>
              <a:ext cx="316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391520" y="5029200"/>
            <a:ext cx="903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96080" y="4572000"/>
            <a:ext cx="1218600" cy="274680"/>
            <a:chOff x="7696080" y="4572000"/>
            <a:chExt cx="1218600" cy="274680"/>
          </a:xfrm>
        </p:grpSpPr>
        <p:sp>
          <p:nvSpPr>
            <p:cNvPr id="139" name=""/>
            <p:cNvSpPr/>
            <p:nvPr/>
          </p:nvSpPr>
          <p:spPr>
            <a:xfrm>
              <a:off x="7797600" y="4572000"/>
              <a:ext cx="10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97600" y="4846680"/>
              <a:ext cx="10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15320" y="4572000"/>
              <a:ext cx="9936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815320" y="4709880"/>
              <a:ext cx="9936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696080" y="4572000"/>
              <a:ext cx="1015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7696080" y="4709880"/>
              <a:ext cx="1015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848360" y="5486400"/>
            <a:ext cx="547560" cy="274680"/>
            <a:chOff x="7848360" y="5486400"/>
            <a:chExt cx="547560" cy="274680"/>
          </a:xfrm>
        </p:grpSpPr>
        <p:sp>
          <p:nvSpPr>
            <p:cNvPr id="146" name=""/>
            <p:cNvSpPr/>
            <p:nvPr/>
          </p:nvSpPr>
          <p:spPr>
            <a:xfrm>
              <a:off x="7894440" y="548640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4440" y="57610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51640" y="5486400"/>
              <a:ext cx="44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351640" y="5624280"/>
              <a:ext cx="4428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848360" y="5486400"/>
              <a:ext cx="4572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7848360" y="5624280"/>
              <a:ext cx="4572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467480" y="53341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153280" y="502920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29600" y="5029200"/>
            <a:ext cx="700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5181480"/>
            <a:ext cx="92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800600"/>
            <a:ext cx="0" cy="77796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229600" y="5257440"/>
            <a:ext cx="0" cy="32076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495288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4800600"/>
            <a:ext cx="0" cy="320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638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17680" y="345960"/>
            <a:ext cx="7948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T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istor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rmistor signal for safety circuit of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d, use for battery detection for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Kohm at 25degC (103AT type) Thermistor connect to 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nd BAT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7680" y="345960"/>
            <a:ext cx="7948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WBAT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Battery Alarm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Battery Alarm Signal for system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gnal does ”Terminate discharge Alarm Flag" and the synchronize and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-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active Terminate discharge alarm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ttery pack can supply it with a condition of  1C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econds or mor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Active Terminate discharge alarm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ttery pack can not supply it with a condition of 1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en second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20760" y="1254240"/>
            <a:ext cx="6702480" cy="4352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1160" y="6508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1:02:24Z</dcterms:created>
  <dc:creator>YOSUKE.KONAKA</dc:creator>
  <dc:description/>
  <dc:language>en-US</dc:language>
  <cp:lastModifiedBy>YOSUKE.KONAKA</cp:lastModifiedBy>
  <dcterms:modified xsi:type="dcterms:W3CDTF">1998-10-22T17:26:14Z</dcterms:modified>
  <cp:revision>13</cp:revision>
  <dc:subject/>
  <dc:title>ｽﾗｲﾄﾞ ﾀｲﾄﾙなし</dc:title>
</cp:coreProperties>
</file>