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25F-BA4A-4C71-82B6-14031F32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C62-1299-42ED-B7DB-AD5D251E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33A-92E8-4A39-A4DF-15809398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653-764B-4B06-9CB7-32F9DCC0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035-58CE-4F20-A2FC-F0980B5E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631-7380-475B-981F-AF783B5F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1C5-52D7-4716-8F10-754F97E6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FB7-72C4-4996-BF0E-7979B58F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898-0736-453A-BCFE-63909C74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F31-4E6B-4D2E-B8CB-8CF6CA2C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5E5-2293-4715-9698-D594C515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74D-E3DC-4EF4-9194-153C4C54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D573-79C4-42EE-AF14-F60A5B5512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3840" cy="68706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 Black"/>
              </a:rPr>
              <a:t>	</a:t>
            </a:r>
            <a:r>
              <a:rPr b="0" i="1" lang="en-US" sz="16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0" i="1" lang="en-US" sz="1600" spc="-1" strike="noStrike">
                <a:solidFill>
                  <a:srgbClr val="0000cc"/>
                </a:solidFill>
                <a:latin typeface="Arial Black"/>
              </a:rPr>
              <a:t>SBS Implementers Forum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340000">
            <a:off x="-1611360" y="2475000"/>
            <a:ext cx="3647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SBS IF Working Group Presentation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1523880" y="1397160"/>
          <a:ext cx="6108840" cy="407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7160"/>
                    <a:ext cx="61088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andheld Data Specific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b Dunst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0/23/9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ification in develop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ification for very inexpensive devi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ll-phone batt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nd-held computer batter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velopers/review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BS-IF Adopt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parate NDA Requir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 Cont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w physical lay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gle wi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 to 100KHz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P held by member compan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nk lay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xed and/or assignable addres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rror detec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vice Func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ttery data se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courage broad industry involv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n to member/adopters in the SBS-IF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k Group Chair - Dale Stolitzka (Analog Device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06:01:35Z</dcterms:created>
  <dc:creator>Robert A. Dunstan</dc:creator>
  <dc:description/>
  <dc:language>en-US</dc:language>
  <cp:lastModifiedBy>Robert A. Dunstan</cp:lastModifiedBy>
  <dcterms:modified xsi:type="dcterms:W3CDTF">1998-10-21T06:17:58Z</dcterms:modified>
  <cp:revision>2</cp:revision>
  <dc:subject/>
  <dc:title>Handheld Data Specification Introduction</dc:title>
</cp:coreProperties>
</file>