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73888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9B5-C353-441F-AF80-B005B68B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517-7AC4-4D3D-BD7A-9ADA452E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DC3-062C-4D00-A95E-58FDC7D1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9AA-4A3F-445E-8CBA-E0EB77F0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29E-364B-4449-8C9E-394C93E4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7C1-02DD-40C9-A934-9E4B0CBB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C08-DEE7-4AB7-9E3A-8A0CB4B7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753-DE68-4F17-A00E-FD2F8FA8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FDE-6EC5-4ACE-A335-067D9595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70F-0C4C-4ECE-A148-49122676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F0D-5F9F-4E32-8FC1-5493C977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5D0-F802-46BB-9ADD-B8F77C0C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23FF-6C01-4BC4-AD34-484D519ECF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         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mart Charger Update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Benchmarq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1149840" y="4588560"/>
            <a:ext cx="2670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BS IF  - Japan Meeting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rcRect l="6024" t="5327" r="5052" b="11795"/>
          <a:stretch/>
        </p:blipFill>
        <p:spPr>
          <a:xfrm>
            <a:off x="0" y="6289560"/>
            <a:ext cx="1147680" cy="568440"/>
          </a:xfrm>
          <a:prstGeom prst="rect">
            <a:avLst/>
          </a:prstGeom>
          <a:ln w="0">
            <a:noFill/>
          </a:ln>
        </p:spPr>
      </p:pic>
      <p:pic>
        <p:nvPicPr>
          <p:cNvPr id="9" name="colorbug" descr=""/>
          <p:cNvPicPr/>
          <p:nvPr/>
        </p:nvPicPr>
        <p:blipFill>
          <a:blip r:embed="rId4"/>
          <a:stretch/>
        </p:blipFill>
        <p:spPr>
          <a:xfrm flipH="1">
            <a:off x="8305920" y="228600"/>
            <a:ext cx="4032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mart Charger Specification Updat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vid Heacock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nchmarq; a Unitrode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" name="BMyell" descr=""/>
          <p:cNvPicPr/>
          <p:nvPr/>
        </p:nvPicPr>
        <p:blipFill>
          <a:blip r:embed="rId1"/>
          <a:stretch/>
        </p:blipFill>
        <p:spPr>
          <a:xfrm>
            <a:off x="7286760" y="1065240"/>
            <a:ext cx="1704960" cy="3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ger Updat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posed specification v1.0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feature chan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move unclear wording/descrip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intain compatibility with v1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arified accuracy issu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arified Host controlled charg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comment to proposed changes by 11/30/9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ger Updates Detai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85000"/>
              </a:lnSpc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mistor renamed to safety sig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39000" indent="-245520">
              <a:lnSpc>
                <a:spcPct val="85000"/>
              </a:lnSpc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iminates confus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39000" indent="-245520">
              <a:lnSpc>
                <a:spcPct val="85000"/>
              </a:lnSpc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s necessary safety component between Smart Battery and Charg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39000" indent="-245520">
              <a:lnSpc>
                <a:spcPct val="85000"/>
              </a:lnSpc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ows use of a resistor to indicate wake-up charge timeou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94840" indent="-294840">
              <a:lnSpc>
                <a:spcPct val="85000"/>
              </a:lnSpc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move terms Host Controlled and Smart Battery Controlled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39000" indent="-245520">
              <a:lnSpc>
                <a:spcPct val="85000"/>
              </a:lnSpc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vel 3 and Level 2 charge typ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39000" indent="-245520">
              <a:lnSpc>
                <a:spcPct val="85000"/>
              </a:lnSpc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vel 3 can poll the battery or in slave-mode, have its own termination algorith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rger Updates Detail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cont’d.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arified regulation accuracy to a minimum of 5% for current and volt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resentative of what the charger is capable of provid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rrent and voltage “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not in regulation”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bits were made opt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ded tolerance to Safety Signal Char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commended charger leakage current of less than 100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21:13:42Z</dcterms:created>
  <dc:creator>Preferred Customer</dc:creator>
  <dc:description/>
  <dc:language>en-US</dc:language>
  <cp:lastModifiedBy>David Heacock</cp:lastModifiedBy>
  <cp:lastPrinted>1998-10-09T18:31:43Z</cp:lastPrinted>
  <dcterms:modified xsi:type="dcterms:W3CDTF">1998-10-20T13:04:03Z</dcterms:modified>
  <cp:revision>31</cp:revision>
  <dc:subject/>
  <dc:title>No Slide Title</dc:title>
</cp:coreProperties>
</file>