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08B-94E0-46B4-ADD2-70524D69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970-6EB0-43B8-8FFC-2B581878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BEA-22D6-41C0-ACDF-46E0C81D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E05-A8A2-4A09-913E-6DE04223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B32-3EF6-42C1-AD3A-263A8AA2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3EF-F4BA-4E2E-A511-85A712B6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936-13A4-4221-AA73-9CFBAB5A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3F2D-28A2-4B1A-9B2F-81768DF0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D1CC-81C7-4B3A-AD21-88418A5E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B8E-F221-4934-B7D3-D7608F24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1D6-E268-4303-9B3F-AF3A573C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2F37-54CF-47DC-9C5F-C5B129B1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B7BA-2D3A-44F6-A9EB-E6874009B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480" y="1120680"/>
            <a:ext cx="71956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PCC” Preliminary Platform (System s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Oct-22-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Yosuke Konaka / Hitachi,  Ltd. 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konaka@ebina.hitachi.co.j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4800" y="457200"/>
            <a:ext cx="7832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ck word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System Side Detection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tep1)Check Battery Mode ( ) Bit10:PCC bit /No “PCC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tep2)If Find “1:PCC Support” ,Tentative Enable “PCC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tep3)Recheck Battery Mode ( ) /with “PC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tep4)If Fond “PCC” Error , go back to Ste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f not found “PCC” Error then enable “PCC”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Why need “Detection Protoco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Some Smbus Slave doing hangup with what begin to be re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ore than byte number of rule in order to confirm P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Some Smbus Slave return wring data with begin to be re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ore than byt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99320" y="63244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HITACHI,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80880"/>
            <a:ext cx="8590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C Battery” can mix “non PCC Syst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.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/o P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/o P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/o P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/o P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============================================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.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.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s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sequence is published than the system side by a by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rule, and battery side can recognize do not need "PC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s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side can identify whether the battery side supports "PCC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battery detection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2T00:35:18Z</dcterms:created>
  <dc:creator>YOSUKE.KONAKA</dc:creator>
  <dc:description/>
  <dc:language>en-US</dc:language>
  <cp:lastModifiedBy>YOSUKE.KONAKA</cp:lastModifiedBy>
  <dcterms:modified xsi:type="dcterms:W3CDTF">1998-10-22T02:01:10Z</dcterms:modified>
  <cp:revision>6</cp:revision>
  <dc:subject/>
  <dc:title>ｽﾗｲﾄﾞ ﾀｲﾄﾙなし</dc:title>
</cp:coreProperties>
</file>