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EC7D-A8EA-4A1D-907E-75EBEF590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C07F-9E44-4986-8385-856F72872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652D-BC71-457E-93A8-AA373BA9A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E76D-CEB3-43F1-8547-6D8DE8F7B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C547-D0FA-4BC8-9E66-EC4FA1974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0A4B-99FD-472A-B093-5AD2C2A4A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9F24-A90E-4EF3-85E9-820E4EB72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DC68-0F84-46FA-A5DA-ACDBDE757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973C-5FA4-4D94-9D08-48BA27B1A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60D3-395E-46DF-941A-DF505F991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F766-C15C-42AE-8170-2BAD1DF3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F905-2B42-4CE6-9224-83C6D42FA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5E3AF-A0AF-403D-A24B-5A7AC074D1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480" y="1120680"/>
            <a:ext cx="719568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PCC” Preliminary Platform (System si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Oct-22-19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Hitachi,  Ltd. PC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99320" y="6324480"/>
            <a:ext cx="116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HITACHI, Lt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4800" y="457200"/>
            <a:ext cx="78328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Back word compat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-System Side Detection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Step1)Check Battery Mode ( ) Bit10:PCC bit /No “PCC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Step2)If Find “1:PCC Support” ,Tentative Enable “PCC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Step3)Recheck Battery Mode ( ) /with “PCC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Step4)If Fond “PCC” Error , go back to Ste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If not found “PCC” Error then enable “PCC” Cyc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-Why need “Detection Protoco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*Some Smbus Slave doing hangup with what begin to be re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more than byte number of rule in order to confirm PC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*Some Smbus Slave return wring data with begin to be re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more than byte numb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99320" y="6324480"/>
            <a:ext cx="116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HITACHI, Lt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99320" y="6324480"/>
            <a:ext cx="116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HITACHI, Lt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380880"/>
            <a:ext cx="85903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C Battery” can mix “non PCC System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tern.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tern.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tern.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tern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/o PC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/o PC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tt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/o PC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/o PC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=============================================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.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.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Case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P sequence is published than the system side by a by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rule, and battery side can recognize do not need "PCC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Cas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 side can identify whether the battery side supports "PCC"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battery detection sequ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8534520" cy="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56080" y="415800"/>
            <a:ext cx="5817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ﾊﾞｯﾃﾘﾊﾟｯｸの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SMBus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通信中における抜差による誤書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990720"/>
            <a:ext cx="7696080" cy="18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Century Gothic"/>
                <a:ea typeface="ＭＳ ゴシック"/>
              </a:rPr>
              <a:t>脱着による誤Ｗｒｉｔｅ．．．</a:t>
            </a:r>
            <a:r>
              <a:rPr b="1" lang="ja-JP" sz="1600" spc="-1" strike="noStrike">
                <a:solidFill>
                  <a:srgbClr val="ff0000"/>
                </a:solidFill>
                <a:latin typeface="Century Gothic"/>
                <a:ea typeface="ＭＳ ゴシック"/>
              </a:rPr>
              <a:t>Battery</a:t>
            </a:r>
            <a:r>
              <a:rPr b="1" lang="ja-JP" sz="1600" spc="-1" strike="noStrike">
                <a:solidFill>
                  <a:srgbClr val="ff0000"/>
                </a:solidFill>
                <a:latin typeface="Century Gothic"/>
                <a:ea typeface="ＭＳ ゴシック"/>
              </a:rPr>
              <a:t>は</a:t>
            </a:r>
            <a:r>
              <a:rPr b="1" lang="ja-JP" sz="1600" spc="-1" strike="noStrike">
                <a:solidFill>
                  <a:srgbClr val="ff0000"/>
                </a:solidFill>
                <a:latin typeface="Century Gothic"/>
                <a:ea typeface="ＭＳ ゴシック"/>
              </a:rPr>
              <a:t>Hot plug in/out</a:t>
            </a:r>
            <a:r>
              <a:rPr b="1" lang="ja-JP" sz="1600" spc="-1" strike="noStrike">
                <a:solidFill>
                  <a:srgbClr val="ff0000"/>
                </a:solidFill>
                <a:latin typeface="Century Gothic"/>
                <a:ea typeface="ＭＳ ゴシック"/>
              </a:rPr>
              <a:t>される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8000"/>
                </a:solidFill>
                <a:latin typeface="ＭＳ ゴシック"/>
                <a:ea typeface="ＭＳ ゴシック"/>
              </a:rPr>
              <a:t>Smat Battery</a:t>
            </a:r>
            <a:r>
              <a:rPr b="1" lang="ja-JP" sz="1600" spc="-1" strike="noStrike">
                <a:solidFill>
                  <a:srgbClr val="008000"/>
                </a:solidFill>
                <a:latin typeface="ＭＳ ゴシック"/>
                <a:ea typeface="ＭＳ ゴシック"/>
              </a:rPr>
              <a:t>の</a:t>
            </a:r>
            <a:r>
              <a:rPr b="1" lang="ja-JP" sz="1600" spc="-1" strike="noStrike">
                <a:solidFill>
                  <a:srgbClr val="008000"/>
                </a:solidFill>
                <a:latin typeface="ＭＳ ゴシック"/>
                <a:ea typeface="ＭＳ ゴシック"/>
              </a:rPr>
              <a:t>Read/Write </a:t>
            </a:r>
            <a:r>
              <a:rPr b="1" lang="ja-JP" sz="1600" spc="-1" strike="noStrike">
                <a:solidFill>
                  <a:srgbClr val="008000"/>
                </a:solidFill>
                <a:latin typeface="ＭＳ ゴシック"/>
                <a:ea typeface="ＭＳ ゴシック"/>
              </a:rPr>
              <a:t>兼用</a:t>
            </a:r>
            <a:r>
              <a:rPr b="1" lang="ja-JP" sz="1600" spc="-1" strike="noStrike">
                <a:solidFill>
                  <a:srgbClr val="008000"/>
                </a:solidFill>
                <a:latin typeface="ＭＳ ゴシック"/>
                <a:ea typeface="ＭＳ ゴシック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Remaining Capacity Alarm (0x0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Remaining Time Alarm (0x0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Battery Mode (0x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AtRate(0x0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明朝"/>
              </a:rPr>
              <a:t>Read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明朝"/>
              </a:rPr>
              <a:t>と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明朝"/>
              </a:rPr>
              <a:t>Writ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明朝"/>
              </a:rPr>
              <a:t>との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明朝"/>
              </a:rPr>
              <a:t>Protocol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明朝"/>
              </a:rPr>
              <a:t>の違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09480" y="2895480"/>
          <a:ext cx="6096240" cy="897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895480"/>
                    <a:ext cx="6096240" cy="8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1359360" y="4038480"/>
            <a:ext cx="58856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Read Command</a:t>
            </a: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と</a:t>
            </a: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Write Command</a:t>
            </a: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との</a:t>
            </a: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Protocol</a:t>
            </a: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の違いを上図に示すが、この違い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2byte</a:t>
            </a: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目の</a:t>
            </a: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Command Code</a:t>
            </a: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の後の</a:t>
            </a: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Restart</a:t>
            </a: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の有無、及び総バイト数だけ（</a:t>
            </a: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Read:5byte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Write:4byte</a:t>
            </a: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）であり、</a:t>
            </a: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Restart bit</a:t>
            </a: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が欠落した場合</a:t>
            </a: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Read</a:t>
            </a: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を</a:t>
            </a: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Write</a:t>
            </a: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と判断し誤書き込みを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するおそれがある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以下に誤書込について、簡易検証した結果を例として示す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80880" y="5410080"/>
          <a:ext cx="3781440" cy="1090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5410080"/>
                    <a:ext cx="378144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7699320" y="6324480"/>
            <a:ext cx="116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HITACHI, Lt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699320" y="6324480"/>
            <a:ext cx="116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HITACHI, Lt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914400"/>
            <a:ext cx="8534520" cy="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8320" y="415800"/>
            <a:ext cx="2013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ﾃﾞｰﾀの信頼性向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74360" y="968400"/>
            <a:ext cx="7454160" cy="36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充電時の基礎方式を決定する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,ChargeVolatege( ),ChargeCurrent( ),Chemistry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等を誤ってﾁｬｰｼﾞｬが</a:t>
            </a:r>
            <a:br>
              <a:rPr sz="1600"/>
            </a:b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   取得した場合、何度も読み出しｺﾝﾍﾟｱする程度しか、ｴﾗｰ検出手段がない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２個のバッテリを充電するシステムにおいて、充電停止条件として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Terminate Charge Alarm Flag 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を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使用しているばあい、突然他方のバッテリに充電が移る可能性がある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BatteryStatus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も同様。 放電中に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Fully Discharge Alarm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を誤読出し、突然ｻｽﾍﾟﾝﾄﾞに遷移する可能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もある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逆に、充電中は、充電が突然停止する可能性もある。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2T00:35:18Z</dcterms:created>
  <dc:creator>YOSUKE.KONAKA</dc:creator>
  <dc:description/>
  <dc:language>en-US</dc:language>
  <cp:lastModifiedBy>YOSUKE.KONAKA</cp:lastModifiedBy>
  <dcterms:modified xsi:type="dcterms:W3CDTF">1998-10-22T01:58:24Z</dcterms:modified>
  <cp:revision>6</cp:revision>
  <dc:subject/>
  <dc:title>ｽﾗｲﾄﾞ ﾀｲﾄﾙなし</dc:title>
</cp:coreProperties>
</file>