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678E-F75A-490D-B60C-186F775451E3}" type="slidenum">
              <a:rPr b="0" i="1" lang="ja-JP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87184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7184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41D-AD03-45EF-BFEF-726C4D45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19C-1A36-43C0-978C-6AEAD6AB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2B0-D3F5-426E-B028-E79A489F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B6F-8CA4-4E86-AAD6-408B14CA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B48-643E-48ED-95EB-29101391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347-D85A-4B9B-B589-FB823628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560-3B96-439C-9D82-A5F2E693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63C-34F7-4DF8-A388-CD4F6938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925-D795-4892-80A8-2E4F1E7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B1E-2545-4096-BE1B-669E38F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2C4-84B2-44B8-A5AC-6F0BC92C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361-3126-494D-AF3F-F357F59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2DA2-FCBF-4993-8BCF-ABD183552C78}" type="slidenum">
              <a:rPr b="0" lang="ja-JP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3840" cy="68706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 Black"/>
              </a:rPr>
              <a:t>SBS Smart Battery Data Working Group      </a:t>
            </a:r>
            <a:r>
              <a:rPr b="0" i="1" lang="en-US" sz="1600" spc="-1" strike="noStrike">
                <a:solidFill>
                  <a:srgbClr val="0000cc"/>
                </a:solidFill>
                <a:latin typeface="Arial Black"/>
              </a:rPr>
              <a:t>	</a:t>
            </a:r>
            <a:r>
              <a:rPr b="0" i="1" lang="en-US" sz="1600" spc="-1" strike="noStrike">
                <a:solidFill>
                  <a:srgbClr val="0000cc"/>
                </a:solidFill>
                <a:latin typeface="Arial Black"/>
              </a:rPr>
              <a:t> SBS - Implementers Forum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340000">
            <a:off x="-1611360" y="2475000"/>
            <a:ext cx="3647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SBS IF Working Group Presentation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1523880" y="1397160"/>
          <a:ext cx="6108840" cy="40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7160"/>
                    <a:ext cx="61088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>
            <a:off x="8077320" y="4876920"/>
            <a:ext cx="873000" cy="1218960"/>
          </a:xfrm>
          <a:prstGeom prst="rect">
            <a:avLst/>
          </a:prstGeom>
          <a:ln w="0">
            <a:noFill/>
          </a:ln>
        </p:spPr>
      </p:pic>
      <p:pic>
        <p:nvPicPr>
          <p:cNvPr id="11" name="vine_leaf2" descr=""/>
          <p:cNvPicPr/>
          <p:nvPr/>
        </p:nvPicPr>
        <p:blipFill>
          <a:blip r:embed="rId6"/>
          <a:stretch/>
        </p:blipFill>
        <p:spPr>
          <a:xfrm>
            <a:off x="457200" y="4876920"/>
            <a:ext cx="81288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BS-I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BS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ing Grou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n Fri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gust, 9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pa, C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41880" y="651816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A Airline Iss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座席電源ではノートパソコンの充電を禁止する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vent charging of Notebook battery when in-seat power present…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電力源から充電に使用してはならないという信号を使う（システム電源としては使用可）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 from power source that the power is not to be used for battery charging (but may only be used to run system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提案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 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A Airline Iss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座席電源ではノートパソコンの充電を禁止する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vent charging of Notebook battery when in-seat power present…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強制は？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forcement 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総論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システム基準資料：ＷＧ責任者が各章の担当である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stem Guidelines document: WG chairman responsible for chapt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各章は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1.1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仕様にそって書くこと （同時発表するため）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pters to be written with V1.1 Spec update so can be released concurrentl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ＦＡＡ問題に関しては方向性が必要である（提案）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A Issue needs path to solution (proposal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安全性ワーキング・グループ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fety WG Meet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61722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議題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安全基準資料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fety Guidelines Docum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米）連邦航空局問題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A Airline Iss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安全基準資料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fety Guidelines Docu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各章はワーキング・グループ責任者による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pters by WG Chairm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章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pter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rg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tte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s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lecto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neral SMBus De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安全基準資料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fety Guidelines Docu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rg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出力電圧・電流に制限をつける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me maximum Voltage and Current limit on outp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安全信号 （Ｔ 入力端子）の強制採用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 support ‘Safety Signal’ (T-pin)’ inp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安全基準資料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fety Guidelines Docu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tte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過充電・過放電に対し安全である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herently safe on over-charge and over-dischar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安全信号 （Ｔ 入力端子）の強制採用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 support ‘Safety Signal’ (T-pin) outp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安全基準資料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fety Guidelines Docu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許可されてないチャージャーや電力切替え制御への介入防止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vents unauthorized access to charger and power switching contr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その他？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ther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安全基準資料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fety Guidelines Docu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2392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lec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無効または危険な環境に設定されてはならない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not configure into invalid or unsafe topolog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安全基準資料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fety Guidelines Documen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Bus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デバイス全般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eral SMBus Devi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クロックまたはデーターを‘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’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レベルにし、ＳＭＢｕｓをロックしてはならない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not ‘lock’ SMBus with either CLOCK or DATA held low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その他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A Airline Issu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米）連邦航空局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航空機内の座席におけるノートパソコン用電源に関して検討中である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ewing issue of Notebooks on airlines with in-seat pow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予想されるオプション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sible Op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航空機内でのノートパソコン使用を禁止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 Notebooks on Airlin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座席の電源使用を不可能に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able in-seat pow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座席電源ではノートパソコンの充電を禁止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vent charging of Notebook battery when in-seat power pres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19:44Z</dcterms:created>
  <dc:creator>Robert A. Dunstan</dc:creator>
  <dc:description/>
  <dc:language>en-US</dc:language>
  <cp:lastModifiedBy>広田  敏</cp:lastModifiedBy>
  <cp:lastPrinted>1998-01-16T01:05:10Z</cp:lastPrinted>
  <dcterms:modified xsi:type="dcterms:W3CDTF">1998-10-20T05:44:55Z</dcterms:modified>
  <cp:revision>38</cp:revision>
  <dc:subject/>
  <dc:title>Smart Battery “wg name here”</dc:title>
</cp:coreProperties>
</file>