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01800" y="4247640"/>
            <a:ext cx="7997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04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1800" y="424764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0040" y="424764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6120" y="180936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0080" y="180936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01800" y="424764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6120" y="424764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0080" y="4247640"/>
            <a:ext cx="257508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3902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0040" y="1809360"/>
            <a:ext cx="3902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92080" y="456840"/>
            <a:ext cx="798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0040" y="1809360"/>
            <a:ext cx="3902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01800" y="424764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3902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004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0040" y="424764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0040" y="1809360"/>
            <a:ext cx="3902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1800" y="4247640"/>
            <a:ext cx="7997760" cy="222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5c300"/>
                </a:solidFill>
                <a:latin typeface="Arial"/>
              </a:rPr>
              <a:t>Smart Battery System Manager</a:t>
            </a:r>
            <a:endParaRPr b="1" lang="en-US" sz="44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 Dunst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l Corpo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458440" y="6323040"/>
            <a:ext cx="424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1998 SBS Implementers Forum, All Rights 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Key Concepts (cont.)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need to implement supported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ly intelligent entity requi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be implemented as a single component, but 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ly implemented as a system using E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ttery System safety is ultimately the responsibility of the SB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mart Battery System Manager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specification - more flexibility of battery system archite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ultaneous charging and discharg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form owns power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ttery System policy (safely manages discharging and charging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 status and status changes to 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s composite battery data during simultaneous disch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mart Battery System Manager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 role in battery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s battery system stat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s events when battery system status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ys NO role in power system configu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 can get combined data from active batteries during simultaneous disch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486400"/>
            <a:ext cx="7543800" cy="76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pec for battery system manag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73520" y="3836880"/>
            <a:ext cx="4602240" cy="824040"/>
          </a:xfrm>
          <a:prstGeom prst="rect">
            <a:avLst/>
          </a:prstGeom>
          <a:solidFill>
            <a:srgbClr val="97b5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 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The Future</a:t>
            </a:r>
            <a:br>
              <a:rPr sz="4800"/>
            </a:br>
            <a:r>
              <a:rPr b="1" lang="en-US" sz="3200" spc="-1" strike="noStrike">
                <a:solidFill>
                  <a:srgbClr val="f5c300"/>
                </a:solidFill>
                <a:latin typeface="Arial"/>
              </a:rPr>
              <a:t>An Updated Data Model</a:t>
            </a:r>
            <a:endParaRPr b="1" lang="en-US" sz="32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943280"/>
            <a:ext cx="2057400" cy="2133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095560"/>
            <a:ext cx="175284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PI EC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086280"/>
            <a:ext cx="175284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Bus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0440" y="3467160"/>
            <a:ext cx="434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0240" y="29718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3962520"/>
            <a:ext cx="1447560" cy="579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mart Batt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8600" y="5489640"/>
            <a:ext cx="1168200" cy="8240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4520" y="5477040"/>
            <a:ext cx="1168200" cy="8240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282920" y="4687920"/>
            <a:ext cx="0" cy="76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502240" y="4687920"/>
            <a:ext cx="0" cy="76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346860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828800"/>
            <a:ext cx="304560" cy="3049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726080"/>
            <a:ext cx="0" cy="760320"/>
          </a:xfrm>
          <a:prstGeom prst="line">
            <a:avLst/>
          </a:prstGeom>
          <a:ln w="25560">
            <a:solidFill>
              <a:srgbClr val="de1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713120"/>
            <a:ext cx="0" cy="760680"/>
          </a:xfrm>
          <a:prstGeom prst="line">
            <a:avLst/>
          </a:prstGeom>
          <a:ln w="25560">
            <a:solidFill>
              <a:srgbClr val="de1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47840" y="4495680"/>
            <a:ext cx="2386080" cy="0"/>
          </a:xfrm>
          <a:prstGeom prst="line">
            <a:avLst/>
          </a:prstGeom>
          <a:ln w="25560">
            <a:solidFill>
              <a:srgbClr val="de15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2668680"/>
            <a:ext cx="0" cy="1141200"/>
          </a:xfrm>
          <a:prstGeom prst="line">
            <a:avLst/>
          </a:prstGeom>
          <a:ln w="25560">
            <a:solidFill>
              <a:srgbClr val="de15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76720"/>
            <a:ext cx="1677960" cy="534960"/>
          </a:xfrm>
          <a:custGeom>
            <a:avLst/>
            <a:gdLst/>
            <a:ahLst/>
            <a:rect l="l" t="t" r="r" b="b"/>
            <a:pathLst>
              <a:path w="1057" h="337">
                <a:moveTo>
                  <a:pt x="0" y="0"/>
                </a:moveTo>
                <a:lnTo>
                  <a:pt x="1056" y="0"/>
                </a:lnTo>
                <a:lnTo>
                  <a:pt x="1056" y="336"/>
                </a:lnTo>
              </a:path>
            </a:pathLst>
          </a:custGeom>
          <a:noFill/>
          <a:ln cap="rnd" w="25560">
            <a:solidFill>
              <a:srgbClr val="de15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49120" y="1752480"/>
            <a:ext cx="132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1440" y="1790640"/>
            <a:ext cx="195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BS specif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7280" y="233676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PI specif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19400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Unified System Interface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54080" y="4849920"/>
            <a:ext cx="1209960" cy="1159200"/>
            <a:chOff x="1954080" y="4849920"/>
            <a:chExt cx="1209960" cy="1159200"/>
          </a:xfrm>
        </p:grpSpPr>
        <p:sp>
          <p:nvSpPr>
            <p:cNvPr id="158" name=""/>
            <p:cNvSpPr/>
            <p:nvPr/>
          </p:nvSpPr>
          <p:spPr>
            <a:xfrm>
              <a:off x="1954080" y="4849920"/>
              <a:ext cx="120996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M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/w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System SM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communication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960200" y="5764320"/>
              <a:ext cx="1199160" cy="244800"/>
              <a:chOff x="1960200" y="5764320"/>
              <a:chExt cx="1199160" cy="244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6020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6980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8084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9044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159000" y="4849920"/>
            <a:ext cx="1209960" cy="1159200"/>
            <a:chOff x="3159000" y="4849920"/>
            <a:chExt cx="1209960" cy="1159200"/>
          </a:xfrm>
        </p:grpSpPr>
        <p:sp>
          <p:nvSpPr>
            <p:cNvPr id="165" name=""/>
            <p:cNvSpPr/>
            <p:nvPr/>
          </p:nvSpPr>
          <p:spPr>
            <a:xfrm>
              <a:off x="3159000" y="4849920"/>
              <a:ext cx="120996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WER_B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System 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power &amp; comm.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165120" y="5764320"/>
              <a:ext cx="1199160" cy="244800"/>
              <a:chOff x="3165120" y="5764320"/>
              <a:chExt cx="1199160" cy="244800"/>
            </a:xfrm>
          </p:grpSpPr>
          <p:sp>
            <p:nvSpPr>
              <p:cNvPr id="167" name=""/>
              <p:cNvSpPr/>
              <p:nvPr/>
            </p:nvSpPr>
            <p:spPr>
              <a:xfrm>
                <a:off x="316512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7472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8576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9536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365720" y="4849920"/>
            <a:ext cx="1209600" cy="1159200"/>
            <a:chOff x="4365720" y="4849920"/>
            <a:chExt cx="1209600" cy="1159200"/>
          </a:xfrm>
        </p:grpSpPr>
        <p:sp>
          <p:nvSpPr>
            <p:cNvPr id="172" name=""/>
            <p:cNvSpPr/>
            <p:nvPr/>
          </p:nvSpPr>
          <p:spPr>
            <a:xfrm>
              <a:off x="4365720" y="4849920"/>
              <a:ext cx="120960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Charg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power &amp; comm.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371840" y="5764320"/>
              <a:ext cx="1198800" cy="244800"/>
              <a:chOff x="4371840" y="5764320"/>
              <a:chExt cx="1198800" cy="244800"/>
            </a:xfrm>
          </p:grpSpPr>
          <p:sp>
            <p:nvSpPr>
              <p:cNvPr id="174" name=""/>
              <p:cNvSpPr/>
              <p:nvPr/>
            </p:nvSpPr>
            <p:spPr>
              <a:xfrm>
                <a:off x="437184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8144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9212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0172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572080" y="4849920"/>
            <a:ext cx="1209600" cy="1159200"/>
            <a:chOff x="5572080" y="4849920"/>
            <a:chExt cx="1209600" cy="1159200"/>
          </a:xfrm>
        </p:grpSpPr>
        <p:sp>
          <p:nvSpPr>
            <p:cNvPr id="179" name=""/>
            <p:cNvSpPr/>
            <p:nvPr/>
          </p:nvSpPr>
          <p:spPr>
            <a:xfrm>
              <a:off x="5572080" y="4849920"/>
              <a:ext cx="120960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ES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(s) pres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578200" y="5764320"/>
              <a:ext cx="1199160" cy="244800"/>
              <a:chOff x="5578200" y="5764320"/>
              <a:chExt cx="1199160" cy="244800"/>
            </a:xfrm>
          </p:grpSpPr>
          <p:sp>
            <p:nvSpPr>
              <p:cNvPr id="181" name=""/>
              <p:cNvSpPr/>
              <p:nvPr/>
            </p:nvSpPr>
            <p:spPr>
              <a:xfrm>
                <a:off x="557820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87800" y="576432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9884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8440" y="576432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838080" y="1752480"/>
            <a:ext cx="8113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 only configuration regi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des details of architectural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 O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any top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Example Implementation 1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793960"/>
            <a:ext cx="382680" cy="1449360"/>
          </a:xfrm>
          <a:custGeom>
            <a:avLst/>
            <a:gdLst/>
            <a:ahLst/>
            <a:rect l="l" t="t" r="r" b="b"/>
            <a:pathLst>
              <a:path w="241" h="913">
                <a:moveTo>
                  <a:pt x="0" y="0"/>
                </a:moveTo>
                <a:lnTo>
                  <a:pt x="0" y="912"/>
                </a:lnTo>
                <a:lnTo>
                  <a:pt x="240" y="912"/>
                </a:lnTo>
              </a:path>
            </a:pathLst>
          </a:custGeom>
          <a:noFill/>
          <a:ln cap="rnd" w="25560">
            <a:solidFill>
              <a:srgbClr val="f5c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40080" y="2550960"/>
            <a:ext cx="1374840" cy="432000"/>
          </a:xfrm>
          <a:prstGeom prst="rect">
            <a:avLst/>
          </a:prstGeom>
          <a:solidFill>
            <a:srgbClr val="8080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51316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5760" y="1906560"/>
            <a:ext cx="847800" cy="2383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07400" y="2039760"/>
            <a:ext cx="68040" cy="51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19800" y="2039760"/>
            <a:ext cx="66960" cy="51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61280" y="2039760"/>
            <a:ext cx="68400" cy="51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26160" y="2039760"/>
            <a:ext cx="68400" cy="51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89640" y="207504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08960" y="20750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01000" y="194940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18520" y="1932120"/>
            <a:ext cx="14112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0200" y="1976400"/>
            <a:ext cx="669960" cy="155520"/>
            <a:chOff x="700200" y="1976400"/>
            <a:chExt cx="669960" cy="155520"/>
          </a:xfrm>
        </p:grpSpPr>
        <p:sp>
          <p:nvSpPr>
            <p:cNvPr id="200" name=""/>
            <p:cNvSpPr/>
            <p:nvPr/>
          </p:nvSpPr>
          <p:spPr>
            <a:xfrm>
              <a:off x="1028880" y="1976400"/>
              <a:ext cx="230040" cy="155520"/>
            </a:xfrm>
            <a:custGeom>
              <a:avLst/>
              <a:gdLst/>
              <a:ahLst/>
              <a:rect l="l" t="t" r="r" b="b"/>
              <a:pathLst>
                <a:path w="145" h="98">
                  <a:moveTo>
                    <a:pt x="0" y="50"/>
                  </a:moveTo>
                  <a:lnTo>
                    <a:pt x="12" y="30"/>
                  </a:lnTo>
                  <a:lnTo>
                    <a:pt x="24" y="13"/>
                  </a:lnTo>
                  <a:lnTo>
                    <a:pt x="30" y="7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7"/>
                  </a:lnTo>
                  <a:lnTo>
                    <a:pt x="60" y="17"/>
                  </a:lnTo>
                  <a:lnTo>
                    <a:pt x="66" y="33"/>
                  </a:lnTo>
                  <a:lnTo>
                    <a:pt x="73" y="50"/>
                  </a:lnTo>
                  <a:lnTo>
                    <a:pt x="78" y="65"/>
                  </a:lnTo>
                  <a:lnTo>
                    <a:pt x="84" y="80"/>
                  </a:lnTo>
                  <a:lnTo>
                    <a:pt x="89" y="91"/>
                  </a:lnTo>
                  <a:lnTo>
                    <a:pt x="96" y="97"/>
                  </a:lnTo>
                  <a:lnTo>
                    <a:pt x="102" y="97"/>
                  </a:lnTo>
                  <a:lnTo>
                    <a:pt x="109" y="95"/>
                  </a:lnTo>
                  <a:lnTo>
                    <a:pt x="116" y="89"/>
                  </a:lnTo>
                  <a:lnTo>
                    <a:pt x="123" y="80"/>
                  </a:lnTo>
                  <a:lnTo>
                    <a:pt x="135" y="61"/>
                  </a:lnTo>
                  <a:lnTo>
                    <a:pt x="140" y="54"/>
                  </a:lnTo>
                  <a:lnTo>
                    <a:pt x="144" y="5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28800" y="2017800"/>
              <a:ext cx="73080" cy="73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7080" y="2017800"/>
              <a:ext cx="73080" cy="73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0200" y="2054160"/>
              <a:ext cx="22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21040" y="2743200"/>
            <a:ext cx="455400" cy="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2600280"/>
            <a:ext cx="13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ART BATTERY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24600" y="2876400"/>
            <a:ext cx="144360" cy="82800"/>
            <a:chOff x="6024600" y="2876400"/>
            <a:chExt cx="144360" cy="82800"/>
          </a:xfrm>
        </p:grpSpPr>
        <p:sp>
          <p:nvSpPr>
            <p:cNvPr id="207" name=""/>
            <p:cNvSpPr/>
            <p:nvPr/>
          </p:nvSpPr>
          <p:spPr>
            <a:xfrm>
              <a:off x="6024600" y="2876400"/>
              <a:ext cx="144360" cy="5580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903400"/>
              <a:ext cx="144360" cy="5580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721560" y="2763720"/>
            <a:ext cx="271440" cy="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07160" y="27734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2604960"/>
            <a:ext cx="847440" cy="2383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05600" y="273852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18360" y="2738520"/>
            <a:ext cx="666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59480" y="273852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24720" y="273852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88200" y="277344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9200" y="2647800"/>
            <a:ext cx="14148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392600" y="2647800"/>
            <a:ext cx="14148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95880" y="2766960"/>
            <a:ext cx="0" cy="10800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62760" y="274176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932200"/>
            <a:ext cx="0" cy="16200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6120" y="361800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054840" y="3670200"/>
            <a:ext cx="144360" cy="84240"/>
            <a:chOff x="6054840" y="3670200"/>
            <a:chExt cx="144360" cy="84240"/>
          </a:xfrm>
        </p:grpSpPr>
        <p:sp>
          <p:nvSpPr>
            <p:cNvPr id="224" name=""/>
            <p:cNvSpPr/>
            <p:nvPr/>
          </p:nvSpPr>
          <p:spPr>
            <a:xfrm>
              <a:off x="6054840" y="369720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54840" y="367020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126120" y="3726000"/>
            <a:ext cx="0" cy="10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1360" y="3833640"/>
            <a:ext cx="21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3083040"/>
            <a:ext cx="306360" cy="15372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92" y="96"/>
                </a:move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5c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21440" y="3387600"/>
            <a:ext cx="306360" cy="23040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24600" y="4335480"/>
            <a:ext cx="144360" cy="82440"/>
            <a:chOff x="6024600" y="4335480"/>
            <a:chExt cx="144360" cy="82440"/>
          </a:xfrm>
        </p:grpSpPr>
        <p:sp>
          <p:nvSpPr>
            <p:cNvPr id="231" name=""/>
            <p:cNvSpPr/>
            <p:nvPr/>
          </p:nvSpPr>
          <p:spPr>
            <a:xfrm>
              <a:off x="6024600" y="4335480"/>
              <a:ext cx="144360" cy="5544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4600" y="4362480"/>
              <a:ext cx="144360" cy="5544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934320" y="4064040"/>
            <a:ext cx="847440" cy="23796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05600" y="419724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18360" y="4197240"/>
            <a:ext cx="666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59480" y="419724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24720" y="419724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88200" y="423216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21560" y="4222800"/>
            <a:ext cx="271440" cy="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07160" y="42321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99200" y="4106880"/>
            <a:ext cx="14148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392600" y="4106880"/>
            <a:ext cx="14148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095880" y="4226040"/>
            <a:ext cx="0" cy="10800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62760" y="420048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4390920"/>
            <a:ext cx="0" cy="16200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26120" y="507672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054840" y="5129280"/>
            <a:ext cx="144360" cy="84240"/>
            <a:chOff x="6054840" y="5129280"/>
            <a:chExt cx="144360" cy="84240"/>
          </a:xfrm>
        </p:grpSpPr>
        <p:sp>
          <p:nvSpPr>
            <p:cNvPr id="248" name=""/>
            <p:cNvSpPr/>
            <p:nvPr/>
          </p:nvSpPr>
          <p:spPr>
            <a:xfrm>
              <a:off x="6054840" y="515628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4840" y="512928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126120" y="518472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21360" y="5292720"/>
            <a:ext cx="21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4541760"/>
            <a:ext cx="306360" cy="15408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92" y="96"/>
                </a:move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5c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1440" y="4846680"/>
            <a:ext cx="306360" cy="23004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734240" y="2830320"/>
            <a:ext cx="0" cy="37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59720" y="298296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734240" y="430380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59720" y="445608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40080" y="2054160"/>
            <a:ext cx="4494240" cy="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6280560" y="3310920"/>
            <a:ext cx="41940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 SUPPLY CIRC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3840" y="2070000"/>
            <a:ext cx="455760" cy="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3840" y="4229280"/>
            <a:ext cx="455760" cy="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9640" y="4065480"/>
            <a:ext cx="847800" cy="2383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90920" y="419904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3680" y="4199040"/>
            <a:ext cx="666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45160" y="4199040"/>
            <a:ext cx="6804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10040" y="419904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73520" y="423396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92840" y="42339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84520" y="4108320"/>
            <a:ext cx="14148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801680" y="4108320"/>
            <a:ext cx="14148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32240" y="2604960"/>
            <a:ext cx="847800" cy="2383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03880" y="2738520"/>
            <a:ext cx="6804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16280" y="2738520"/>
            <a:ext cx="6696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57760" y="2738520"/>
            <a:ext cx="6840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23000" y="2738520"/>
            <a:ext cx="68040" cy="507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6480" y="277344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27734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7480" y="264780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801680" y="2647800"/>
            <a:ext cx="14148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811320" y="2768760"/>
            <a:ext cx="517320" cy="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02120" y="2732040"/>
            <a:ext cx="730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9240" y="2021040"/>
            <a:ext cx="0" cy="72216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3040" y="2057400"/>
            <a:ext cx="1065240" cy="0"/>
          </a:xfrm>
          <a:prstGeom prst="line">
            <a:avLst/>
          </a:prstGeom>
          <a:ln w="25560">
            <a:solidFill>
              <a:srgbClr val="f5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3760" y="3887640"/>
            <a:ext cx="1292400" cy="4543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8680" y="39639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20960" y="41925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6040" y="41925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8160" y="39639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30440" y="41925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419256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66800" y="4040280"/>
            <a:ext cx="137880" cy="23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176640" y="4040280"/>
            <a:ext cx="138240" cy="23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680" y="4114800"/>
            <a:ext cx="60804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705040" y="2998440"/>
            <a:ext cx="0" cy="96372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52760" y="4268880"/>
            <a:ext cx="0" cy="129384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57680" y="4268880"/>
            <a:ext cx="0" cy="159840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6040" y="5526000"/>
            <a:ext cx="730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20960" y="5830920"/>
            <a:ext cx="730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165120" y="4743360"/>
            <a:ext cx="32353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62240" y="4211640"/>
            <a:ext cx="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76520" y="4268880"/>
            <a:ext cx="0" cy="69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314880" y="2973240"/>
            <a:ext cx="0" cy="98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41320" y="5361120"/>
            <a:ext cx="454320" cy="758520"/>
          </a:xfrm>
          <a:prstGeom prst="rect">
            <a:avLst/>
          </a:prstGeom>
          <a:solidFill>
            <a:srgbClr val="339966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16200" y="566424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4800" y="5511960"/>
            <a:ext cx="73080" cy="72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44800" y="5816520"/>
            <a:ext cx="73080" cy="730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2160" y="5700600"/>
            <a:ext cx="233640" cy="1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3349800"/>
            <a:ext cx="4344840" cy="2214360"/>
          </a:xfrm>
          <a:custGeom>
            <a:avLst/>
            <a:gdLst/>
            <a:ahLst/>
            <a:rect l="l" t="t" r="r" b="b"/>
            <a:pathLst>
              <a:path w="2737" h="1395">
                <a:moveTo>
                  <a:pt x="2736" y="0"/>
                </a:moveTo>
                <a:lnTo>
                  <a:pt x="2289" y="0"/>
                </a:lnTo>
                <a:lnTo>
                  <a:pt x="2289" y="1394"/>
                </a:lnTo>
                <a:lnTo>
                  <a:pt x="0" y="1394"/>
                </a:lnTo>
              </a:path>
            </a:pathLst>
          </a:cu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4809960"/>
            <a:ext cx="4268520" cy="1059120"/>
          </a:xfrm>
          <a:custGeom>
            <a:avLst/>
            <a:gdLst/>
            <a:ahLst/>
            <a:rect l="l" t="t" r="r" b="b"/>
            <a:pathLst>
              <a:path w="2689" h="667">
                <a:moveTo>
                  <a:pt x="2688" y="0"/>
                </a:moveTo>
                <a:lnTo>
                  <a:pt x="2359" y="0"/>
                </a:lnTo>
                <a:lnTo>
                  <a:pt x="2359" y="666"/>
                </a:lnTo>
                <a:lnTo>
                  <a:pt x="0" y="666"/>
                </a:lnTo>
              </a:path>
            </a:pathLst>
          </a:custGeom>
          <a:noFill/>
          <a:ln cap="rnd"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78320" y="3276720"/>
            <a:ext cx="2923920" cy="1690560"/>
          </a:xfrm>
          <a:custGeom>
            <a:avLst/>
            <a:gdLst/>
            <a:ahLst/>
            <a:rect l="l" t="t" r="r" b="b"/>
            <a:pathLst>
              <a:path w="1842" h="1065">
                <a:moveTo>
                  <a:pt x="1841" y="0"/>
                </a:moveTo>
                <a:lnTo>
                  <a:pt x="1322" y="0"/>
                </a:lnTo>
                <a:lnTo>
                  <a:pt x="1322" y="1064"/>
                </a:lnTo>
                <a:lnTo>
                  <a:pt x="0" y="106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220400" y="5702400"/>
            <a:ext cx="60804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1240" y="556272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2440080"/>
            <a:ext cx="0" cy="403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4114800"/>
            <a:ext cx="1141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562720"/>
            <a:ext cx="7164360" cy="839520"/>
          </a:xfrm>
          <a:custGeom>
            <a:avLst/>
            <a:gdLst/>
            <a:ahLst/>
            <a:rect l="l" t="t" r="r" b="b"/>
            <a:pathLst>
              <a:path w="4513" h="529">
                <a:moveTo>
                  <a:pt x="0" y="528"/>
                </a:moveTo>
                <a:lnTo>
                  <a:pt x="4512" y="528"/>
                </a:lnTo>
                <a:lnTo>
                  <a:pt x="45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00320" y="556272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00320" y="5283360"/>
            <a:ext cx="78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91160" y="4468680"/>
            <a:ext cx="123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 Sig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7160" y="4711680"/>
            <a:ext cx="123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 Sig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721640" y="213516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47120" y="228744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29200" y="284652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4680" y="299880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4319280"/>
            <a:ext cx="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4680" y="447192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96120" y="3121200"/>
            <a:ext cx="1112760" cy="382320"/>
            <a:chOff x="6396120" y="3121200"/>
            <a:chExt cx="1112760" cy="382320"/>
          </a:xfrm>
        </p:grpSpPr>
        <p:grpSp>
          <p:nvGrpSpPr>
            <p:cNvPr id="327" name=""/>
            <p:cNvGrpSpPr/>
            <p:nvPr/>
          </p:nvGrpSpPr>
          <p:grpSpPr>
            <a:xfrm>
              <a:off x="6396120" y="3121200"/>
              <a:ext cx="125280" cy="382320"/>
              <a:chOff x="6396120" y="3121200"/>
              <a:chExt cx="125280" cy="3823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6407280" y="3139920"/>
                <a:ext cx="114120" cy="363600"/>
                <a:chOff x="6407280" y="3139920"/>
                <a:chExt cx="114120" cy="363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407280" y="313992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407280" y="345456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407280" y="3406680"/>
                  <a:ext cx="759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07280" y="336852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07280" y="332100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407280" y="3271680"/>
                  <a:ext cx="759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07280" y="3166920"/>
                  <a:ext cx="75960" cy="66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396120" y="3121200"/>
                <a:ext cx="115920" cy="363240"/>
                <a:chOff x="6396120" y="3121200"/>
                <a:chExt cx="115920" cy="3632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397560" y="3121200"/>
                  <a:ext cx="114480" cy="3632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397560" y="343548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397560" y="3387600"/>
                  <a:ext cx="763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397560" y="334008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396120" y="3300480"/>
                  <a:ext cx="7596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97560" y="3252960"/>
                  <a:ext cx="7632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397560" y="3138480"/>
                  <a:ext cx="7632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6846840" y="3157560"/>
              <a:ext cx="314280" cy="304920"/>
              <a:chOff x="6846840" y="3157560"/>
              <a:chExt cx="314280" cy="3049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6846840" y="3319560"/>
                <a:ext cx="314280" cy="142920"/>
                <a:chOff x="6846840" y="3319560"/>
                <a:chExt cx="314280" cy="1429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846840" y="345276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46840" y="3443400"/>
                  <a:ext cx="31428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846840" y="342432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846840" y="341460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46840" y="340524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846840" y="3395520"/>
                  <a:ext cx="31428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46840" y="337644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846840" y="336708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46840" y="33577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46840" y="334800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46840" y="332892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46840" y="3319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846840" y="3157560"/>
                <a:ext cx="314280" cy="152280"/>
                <a:chOff x="6846840" y="3157560"/>
                <a:chExt cx="314280" cy="1522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846840" y="33004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846840" y="328140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46840" y="327168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46840" y="32623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846840" y="324324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846840" y="32338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846840" y="322416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846840" y="320508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846840" y="31957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846840" y="318600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846840" y="316692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846840" y="3157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1" name=""/>
            <p:cNvGrpSpPr/>
            <p:nvPr/>
          </p:nvGrpSpPr>
          <p:grpSpPr>
            <a:xfrm>
              <a:off x="7189920" y="3157560"/>
              <a:ext cx="314280" cy="304920"/>
              <a:chOff x="7189920" y="3157560"/>
              <a:chExt cx="314280" cy="3049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189920" y="3319560"/>
                <a:ext cx="314280" cy="142920"/>
                <a:chOff x="7189920" y="3319560"/>
                <a:chExt cx="314280" cy="1429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189920" y="345276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189920" y="3443400"/>
                  <a:ext cx="31428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189920" y="342432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189920" y="341460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89920" y="340524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189920" y="3395520"/>
                  <a:ext cx="31428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189920" y="337644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189920" y="336708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89920" y="33577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189920" y="334800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189920" y="332892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189920" y="3319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189920" y="3157560"/>
                <a:ext cx="314280" cy="152280"/>
                <a:chOff x="7189920" y="3157560"/>
                <a:chExt cx="314280" cy="1522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189920" y="33004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89920" y="328140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189920" y="327168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189920" y="32623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189920" y="324324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89920" y="32338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189920" y="322416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89920" y="320508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89920" y="31957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89920" y="318600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89920" y="316692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89920" y="3157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6500880" y="3157560"/>
              <a:ext cx="314280" cy="304920"/>
              <a:chOff x="6500880" y="3157560"/>
              <a:chExt cx="314280" cy="3049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500880" y="3319560"/>
                <a:ext cx="314280" cy="142920"/>
                <a:chOff x="6500880" y="3319560"/>
                <a:chExt cx="314280" cy="142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500880" y="345276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500880" y="3443400"/>
                  <a:ext cx="31428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500880" y="342432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00880" y="341460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00880" y="340524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00880" y="3395520"/>
                  <a:ext cx="31428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0880" y="337644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00880" y="336708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00880" y="33577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0880" y="334800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00880" y="332892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00880" y="3319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500880" y="3157560"/>
                <a:ext cx="314280" cy="152280"/>
                <a:chOff x="6500880" y="3157560"/>
                <a:chExt cx="314280" cy="152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500880" y="33004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500880" y="328140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500880" y="327168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500880" y="32623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500880" y="324324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500880" y="32338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00880" y="322416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500880" y="320508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500880" y="319572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500880" y="318600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500880" y="316692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500880" y="315756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5" name=""/>
            <p:cNvSpPr/>
            <p:nvPr/>
          </p:nvSpPr>
          <p:spPr>
            <a:xfrm>
              <a:off x="6515280" y="3273480"/>
              <a:ext cx="304560" cy="76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13480" y="3132000"/>
              <a:ext cx="995400" cy="366840"/>
            </a:xfrm>
            <a:prstGeom prst="rect">
              <a:avLst/>
            </a:prstGeom>
            <a:solidFill>
              <a:srgbClr val="00279f">
                <a:alpha val="50000"/>
              </a:srgbClr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396120" y="4583160"/>
            <a:ext cx="1112760" cy="382680"/>
            <a:chOff x="6396120" y="4583160"/>
            <a:chExt cx="1112760" cy="382680"/>
          </a:xfrm>
        </p:grpSpPr>
        <p:grpSp>
          <p:nvGrpSpPr>
            <p:cNvPr id="428" name=""/>
            <p:cNvGrpSpPr/>
            <p:nvPr/>
          </p:nvGrpSpPr>
          <p:grpSpPr>
            <a:xfrm>
              <a:off x="6396120" y="4583160"/>
              <a:ext cx="125280" cy="382680"/>
              <a:chOff x="6396120" y="4583160"/>
              <a:chExt cx="125280" cy="38268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6407280" y="4602240"/>
                <a:ext cx="114120" cy="363600"/>
                <a:chOff x="6407280" y="4602240"/>
                <a:chExt cx="114120" cy="3636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407280" y="460224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407280" y="491652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407280" y="486900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407280" y="483084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407280" y="478296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407280" y="473400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407280" y="4629240"/>
                  <a:ext cx="7596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396120" y="4583160"/>
                <a:ext cx="115920" cy="363600"/>
                <a:chOff x="6396120" y="4583160"/>
                <a:chExt cx="115920" cy="3636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397560" y="4583160"/>
                  <a:ext cx="11448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397560" y="489744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397560" y="484992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397560" y="4802040"/>
                  <a:ext cx="763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396120" y="4762440"/>
                  <a:ext cx="7596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397560" y="471492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397560" y="4600440"/>
                  <a:ext cx="76320" cy="66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6846840" y="4619520"/>
              <a:ext cx="314280" cy="304920"/>
              <a:chOff x="6846840" y="4619520"/>
              <a:chExt cx="314280" cy="30492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6846840" y="4781520"/>
                <a:ext cx="314280" cy="142920"/>
                <a:chOff x="6846840" y="4781520"/>
                <a:chExt cx="314280" cy="1429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846840" y="49150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846840" y="4905360"/>
                  <a:ext cx="31428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46840" y="488628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46840" y="48769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846840" y="486720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846840" y="4857840"/>
                  <a:ext cx="31428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846840" y="483876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46840" y="482904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846840" y="481968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46840" y="480996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846840" y="4791240"/>
                  <a:ext cx="314280" cy="1872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846840" y="4781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846840" y="4619520"/>
                <a:ext cx="314280" cy="152640"/>
                <a:chOff x="6846840" y="4619520"/>
                <a:chExt cx="314280" cy="152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846840" y="47624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846840" y="47433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46840" y="473400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846840" y="47242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846840" y="47052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846840" y="469584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846840" y="46864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846840" y="46674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46840" y="46576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846840" y="464832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846840" y="462924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846840" y="4619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7189920" y="4619520"/>
              <a:ext cx="314280" cy="304920"/>
              <a:chOff x="7189920" y="4619520"/>
              <a:chExt cx="314280" cy="30492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7189920" y="4781520"/>
                <a:ext cx="314280" cy="142920"/>
                <a:chOff x="7189920" y="4781520"/>
                <a:chExt cx="314280" cy="142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189920" y="49150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89920" y="4905360"/>
                  <a:ext cx="31428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189920" y="488628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189920" y="48769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89920" y="486720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189920" y="4857840"/>
                  <a:ext cx="31428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189920" y="483876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189920" y="482904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89920" y="481968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189920" y="480996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189920" y="4791240"/>
                  <a:ext cx="314280" cy="1872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189920" y="4781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189920" y="4619520"/>
                <a:ext cx="314280" cy="152640"/>
                <a:chOff x="7189920" y="4619520"/>
                <a:chExt cx="314280" cy="1526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189920" y="47624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189920" y="47433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189920" y="473400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189920" y="47242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89920" y="47052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89920" y="469584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9920" y="46864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89920" y="46674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189920" y="46576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89920" y="464832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189920" y="462924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89920" y="4619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6500880" y="4619520"/>
              <a:ext cx="314280" cy="304920"/>
              <a:chOff x="6500880" y="4619520"/>
              <a:chExt cx="314280" cy="30492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6500880" y="4781520"/>
                <a:ext cx="314280" cy="142920"/>
                <a:chOff x="6500880" y="4781520"/>
                <a:chExt cx="314280" cy="142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00880" y="491508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00880" y="4905360"/>
                  <a:ext cx="31428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500880" y="488628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500880" y="487692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500880" y="486720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00880" y="4857840"/>
                  <a:ext cx="31428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500880" y="483876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0880" y="482904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500880" y="481968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500880" y="480996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500880" y="4791240"/>
                  <a:ext cx="314280" cy="1872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500880" y="4781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500880" y="4619520"/>
                <a:ext cx="314280" cy="152640"/>
                <a:chOff x="6500880" y="4619520"/>
                <a:chExt cx="314280" cy="1526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500880" y="47624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00880" y="47433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00880" y="473400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500880" y="47242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00880" y="47052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00880" y="469584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00880" y="468648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00880" y="46674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00880" y="465768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500880" y="464832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00880" y="462924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500880" y="461952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>
              <a:off x="6515280" y="4735440"/>
              <a:ext cx="304560" cy="76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13480" y="4594320"/>
              <a:ext cx="995400" cy="366480"/>
            </a:xfrm>
            <a:prstGeom prst="rect">
              <a:avLst/>
            </a:prstGeom>
            <a:solidFill>
              <a:srgbClr val="00279f">
                <a:alpha val="50000"/>
              </a:srgbClr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982880" y="203040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89400" y="2766960"/>
            <a:ext cx="1530360" cy="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187960" y="4227120"/>
            <a:ext cx="1530360" cy="1116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96360" y="2768760"/>
            <a:ext cx="31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3840" y="2768760"/>
            <a:ext cx="455760" cy="0"/>
          </a:xfrm>
          <a:prstGeom prst="line">
            <a:avLst/>
          </a:prstGeom>
          <a:ln w="25560">
            <a:solidFill>
              <a:srgbClr val="f5c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Example Implementation 2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4257720"/>
            <a:ext cx="847800" cy="237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29280" y="439092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42040" y="4390920"/>
            <a:ext cx="6696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4390920"/>
            <a:ext cx="6804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48400" y="439092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11880" y="442584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45240" y="441648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23240" y="4300560"/>
            <a:ext cx="14112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7316280" y="4300560"/>
            <a:ext cx="14148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2784600"/>
            <a:ext cx="838080" cy="26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29280" y="293220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42040" y="2932200"/>
            <a:ext cx="6696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83520" y="2932200"/>
            <a:ext cx="6804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448400" y="2932200"/>
            <a:ext cx="68400" cy="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11880" y="296712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45240" y="2957400"/>
            <a:ext cx="27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31200" y="296712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23240" y="284148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342200" y="284148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9440" y="2100240"/>
            <a:ext cx="847800" cy="2383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31080" y="2233440"/>
            <a:ext cx="68040" cy="511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143840" y="2233440"/>
            <a:ext cx="66600" cy="511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84960" y="2233440"/>
            <a:ext cx="68400" cy="511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450200" y="2233440"/>
            <a:ext cx="68040" cy="511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13680" y="2268360"/>
            <a:ext cx="6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32640" y="22683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24680" y="214308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42200" y="2143080"/>
            <a:ext cx="14112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5200" y="2478240"/>
            <a:ext cx="150840" cy="1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81960" y="2336760"/>
            <a:ext cx="77760" cy="306360"/>
          </a:xfrm>
          <a:custGeom>
            <a:avLst/>
            <a:gdLst/>
            <a:ahLst/>
            <a:rect l="l" t="t" r="r" b="b"/>
            <a:pathLst>
              <a:path w="49" h="193">
                <a:moveTo>
                  <a:pt x="0" y="192"/>
                </a:moveTo>
                <a:lnTo>
                  <a:pt x="48" y="192"/>
                </a:lnTo>
                <a:lnTo>
                  <a:pt x="48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347480" y="5753160"/>
            <a:ext cx="1243080" cy="0"/>
          </a:xfrm>
          <a:prstGeom prst="line">
            <a:avLst/>
          </a:prstGeom>
          <a:ln w="255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360440" y="6073920"/>
            <a:ext cx="1230480" cy="0"/>
          </a:xfrm>
          <a:prstGeom prst="line">
            <a:avLst/>
          </a:prstGeom>
          <a:ln w="255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23880" y="2158920"/>
            <a:ext cx="669960" cy="154080"/>
            <a:chOff x="623880" y="2158920"/>
            <a:chExt cx="669960" cy="154080"/>
          </a:xfrm>
        </p:grpSpPr>
        <p:sp>
          <p:nvSpPr>
            <p:cNvPr id="567" name=""/>
            <p:cNvSpPr/>
            <p:nvPr/>
          </p:nvSpPr>
          <p:spPr>
            <a:xfrm>
              <a:off x="952560" y="2158920"/>
              <a:ext cx="230040" cy="1540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49"/>
                  </a:moveTo>
                  <a:lnTo>
                    <a:pt x="11" y="28"/>
                  </a:lnTo>
                  <a:lnTo>
                    <a:pt x="25" y="11"/>
                  </a:lnTo>
                  <a:lnTo>
                    <a:pt x="31" y="4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7"/>
                  </a:lnTo>
                  <a:lnTo>
                    <a:pt x="60" y="18"/>
                  </a:lnTo>
                  <a:lnTo>
                    <a:pt x="66" y="32"/>
                  </a:lnTo>
                  <a:lnTo>
                    <a:pt x="72" y="49"/>
                  </a:lnTo>
                  <a:lnTo>
                    <a:pt x="78" y="65"/>
                  </a:lnTo>
                  <a:lnTo>
                    <a:pt x="84" y="79"/>
                  </a:lnTo>
                  <a:lnTo>
                    <a:pt x="90" y="91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9" y="93"/>
                  </a:lnTo>
                  <a:lnTo>
                    <a:pt x="116" y="86"/>
                  </a:lnTo>
                  <a:lnTo>
                    <a:pt x="122" y="79"/>
                  </a:lnTo>
                  <a:lnTo>
                    <a:pt x="135" y="60"/>
                  </a:lnTo>
                  <a:lnTo>
                    <a:pt x="140" y="53"/>
                  </a:lnTo>
                  <a:lnTo>
                    <a:pt x="144" y="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2480" y="2198520"/>
              <a:ext cx="73080" cy="73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20760" y="2198520"/>
              <a:ext cx="73080" cy="73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3880" y="2235240"/>
              <a:ext cx="22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295280" y="2252520"/>
            <a:ext cx="1525680" cy="2016360"/>
          </a:xfrm>
          <a:custGeom>
            <a:avLst/>
            <a:gdLst/>
            <a:ahLst/>
            <a:rect l="l" t="t" r="r" b="b"/>
            <a:pathLst>
              <a:path w="961" h="1270">
                <a:moveTo>
                  <a:pt x="0" y="0"/>
                </a:moveTo>
                <a:lnTo>
                  <a:pt x="672" y="0"/>
                </a:lnTo>
                <a:lnTo>
                  <a:pt x="672" y="1269"/>
                </a:lnTo>
                <a:lnTo>
                  <a:pt x="960" y="1269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63760" y="2819520"/>
            <a:ext cx="45576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25600" y="2782800"/>
            <a:ext cx="730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17720" y="2725560"/>
            <a:ext cx="924120" cy="470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0800" y="2793960"/>
            <a:ext cx="84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IRCUITR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948280" y="3070080"/>
            <a:ext cx="144720" cy="82800"/>
            <a:chOff x="5948280" y="3070080"/>
            <a:chExt cx="144720" cy="82800"/>
          </a:xfrm>
        </p:grpSpPr>
        <p:sp>
          <p:nvSpPr>
            <p:cNvPr id="577" name=""/>
            <p:cNvSpPr/>
            <p:nvPr/>
          </p:nvSpPr>
          <p:spPr>
            <a:xfrm>
              <a:off x="5948280" y="3070080"/>
              <a:ext cx="144720" cy="5580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48280" y="3097080"/>
              <a:ext cx="144720" cy="5580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735360" y="2960640"/>
            <a:ext cx="312264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019920" y="2960640"/>
            <a:ext cx="0" cy="108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86440" y="293544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3125880"/>
            <a:ext cx="0" cy="162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49800" y="3811680"/>
            <a:ext cx="0" cy="106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978520" y="3863880"/>
            <a:ext cx="144360" cy="84240"/>
            <a:chOff x="5978520" y="3863880"/>
            <a:chExt cx="144360" cy="84240"/>
          </a:xfrm>
        </p:grpSpPr>
        <p:sp>
          <p:nvSpPr>
            <p:cNvPr id="585" name=""/>
            <p:cNvSpPr/>
            <p:nvPr/>
          </p:nvSpPr>
          <p:spPr>
            <a:xfrm>
              <a:off x="5978520" y="389088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78520" y="386388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049800" y="3919680"/>
            <a:ext cx="0" cy="10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45040" y="4027320"/>
            <a:ext cx="21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3276720"/>
            <a:ext cx="306360" cy="15372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92" y="96"/>
                </a:move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45120" y="3581280"/>
            <a:ext cx="306360" cy="23040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17720" y="4184640"/>
            <a:ext cx="924120" cy="46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90800" y="4253040"/>
            <a:ext cx="84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IRCUITR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948280" y="4529160"/>
            <a:ext cx="144720" cy="82440"/>
            <a:chOff x="5948280" y="4529160"/>
            <a:chExt cx="144720" cy="82440"/>
          </a:xfrm>
        </p:grpSpPr>
        <p:sp>
          <p:nvSpPr>
            <p:cNvPr id="594" name=""/>
            <p:cNvSpPr/>
            <p:nvPr/>
          </p:nvSpPr>
          <p:spPr>
            <a:xfrm>
              <a:off x="5948280" y="4529160"/>
              <a:ext cx="144720" cy="5544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8280" y="4556160"/>
              <a:ext cx="144720" cy="5544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0" y="34"/>
                  </a:moveTo>
                  <a:lnTo>
                    <a:pt x="45" y="0"/>
                  </a:lnTo>
                  <a:lnTo>
                    <a:pt x="90" y="34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811680" y="4419720"/>
            <a:ext cx="30510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31200" y="442584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019920" y="4419720"/>
            <a:ext cx="0" cy="108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86440" y="439416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4584600"/>
            <a:ext cx="0" cy="162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49800" y="5270400"/>
            <a:ext cx="0" cy="10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978520" y="5322960"/>
            <a:ext cx="144360" cy="84240"/>
            <a:chOff x="5978520" y="5322960"/>
            <a:chExt cx="144360" cy="84240"/>
          </a:xfrm>
        </p:grpSpPr>
        <p:sp>
          <p:nvSpPr>
            <p:cNvPr id="603" name=""/>
            <p:cNvSpPr/>
            <p:nvPr/>
          </p:nvSpPr>
          <p:spPr>
            <a:xfrm>
              <a:off x="5978520" y="534996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78520" y="5322960"/>
              <a:ext cx="144360" cy="5724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0"/>
                  </a:moveTo>
                  <a:lnTo>
                    <a:pt x="45" y="35"/>
                  </a:lnTo>
                  <a:lnTo>
                    <a:pt x="9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6049800" y="537840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45040" y="5486400"/>
            <a:ext cx="21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4735440"/>
            <a:ext cx="306360" cy="154080"/>
          </a:xfrm>
          <a:custGeom>
            <a:avLst/>
            <a:gdLst/>
            <a:ahLst/>
            <a:rect l="l" t="t" r="r" b="b"/>
            <a:pathLst>
              <a:path w="193" h="97">
                <a:moveTo>
                  <a:pt x="192" y="96"/>
                </a:move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45120" y="5040360"/>
            <a:ext cx="306360" cy="230040"/>
          </a:xfrm>
          <a:custGeom>
            <a:avLst/>
            <a:gdLst/>
            <a:ahLst/>
            <a:rect l="l" t="t" r="r" b="b"/>
            <a:pathLst>
              <a:path w="193" h="145">
                <a:moveTo>
                  <a:pt x="0" y="14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7390080" y="3024000"/>
            <a:ext cx="555480" cy="545760"/>
            <a:chOff x="7390080" y="3024000"/>
            <a:chExt cx="555480" cy="545760"/>
          </a:xfrm>
        </p:grpSpPr>
        <p:sp>
          <p:nvSpPr>
            <p:cNvPr id="610" name=""/>
            <p:cNvSpPr/>
            <p:nvPr/>
          </p:nvSpPr>
          <p:spPr>
            <a:xfrm flipV="1">
              <a:off x="7658280" y="3024000"/>
              <a:ext cx="0" cy="37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83400" y="3176640"/>
              <a:ext cx="15084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90080" y="3340080"/>
              <a:ext cx="555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390080" y="4497480"/>
            <a:ext cx="555480" cy="558360"/>
            <a:chOff x="7390080" y="4497480"/>
            <a:chExt cx="555480" cy="558360"/>
          </a:xfrm>
        </p:grpSpPr>
        <p:sp>
          <p:nvSpPr>
            <p:cNvPr id="614" name=""/>
            <p:cNvSpPr/>
            <p:nvPr/>
          </p:nvSpPr>
          <p:spPr>
            <a:xfrm flipV="1">
              <a:off x="7658280" y="4497480"/>
              <a:ext cx="0" cy="37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3400" y="4649760"/>
              <a:ext cx="15084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90080" y="4826160"/>
              <a:ext cx="555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362240" y="2719440"/>
            <a:ext cx="0" cy="37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7600" y="5562720"/>
            <a:ext cx="67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Black"/>
              </a:rPr>
              <a:t>SMB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3040" y="2971800"/>
            <a:ext cx="1446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3040" y="4419720"/>
            <a:ext cx="1446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3505320"/>
            <a:ext cx="4954680" cy="291960"/>
          </a:xfrm>
          <a:custGeom>
            <a:avLst/>
            <a:gdLst/>
            <a:ahLst/>
            <a:rect l="l" t="t" r="r" b="b"/>
            <a:pathLst>
              <a:path w="3121" h="184">
                <a:moveTo>
                  <a:pt x="3120" y="0"/>
                </a:moveTo>
                <a:lnTo>
                  <a:pt x="2640" y="0"/>
                </a:lnTo>
                <a:lnTo>
                  <a:pt x="2640" y="183"/>
                </a:lnTo>
                <a:lnTo>
                  <a:pt x="0" y="18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909960"/>
            <a:ext cx="4954680" cy="1044720"/>
          </a:xfrm>
          <a:custGeom>
            <a:avLst/>
            <a:gdLst/>
            <a:ahLst/>
            <a:rect l="l" t="t" r="r" b="b"/>
            <a:pathLst>
              <a:path w="3121" h="658">
                <a:moveTo>
                  <a:pt x="3120" y="657"/>
                </a:moveTo>
                <a:lnTo>
                  <a:pt x="2688" y="657"/>
                </a:lnTo>
                <a:lnTo>
                  <a:pt x="2640" y="657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90920" y="3543480"/>
            <a:ext cx="3735360" cy="2211120"/>
          </a:xfrm>
          <a:custGeom>
            <a:avLst/>
            <a:gdLst/>
            <a:ahLst/>
            <a:rect l="l" t="t" r="r" b="b"/>
            <a:pathLst>
              <a:path w="2353" h="1393">
                <a:moveTo>
                  <a:pt x="2352" y="0"/>
                </a:moveTo>
                <a:lnTo>
                  <a:pt x="1968" y="0"/>
                </a:lnTo>
                <a:lnTo>
                  <a:pt x="1968" y="1392"/>
                </a:lnTo>
                <a:lnTo>
                  <a:pt x="0" y="1392"/>
                </a:lnTo>
              </a:path>
            </a:pathLst>
          </a:custGeom>
          <a:noFill/>
          <a:ln cap="rnd" w="2556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0920" y="5003640"/>
            <a:ext cx="3735360" cy="1068480"/>
          </a:xfrm>
          <a:custGeom>
            <a:avLst/>
            <a:gdLst/>
            <a:ahLst/>
            <a:rect l="l" t="t" r="r" b="b"/>
            <a:pathLst>
              <a:path w="2353" h="673">
                <a:moveTo>
                  <a:pt x="2352" y="0"/>
                </a:moveTo>
                <a:lnTo>
                  <a:pt x="2064" y="0"/>
                </a:lnTo>
                <a:lnTo>
                  <a:pt x="2064" y="672"/>
                </a:lnTo>
                <a:lnTo>
                  <a:pt x="0" y="672"/>
                </a:lnTo>
              </a:path>
            </a:pathLst>
          </a:custGeom>
          <a:noFill/>
          <a:ln cap="rnd" w="2556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7600" y="5905440"/>
            <a:ext cx="67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Black"/>
              </a:rPr>
              <a:t>SMB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5160" y="2527200"/>
            <a:ext cx="55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38560" y="2211480"/>
            <a:ext cx="666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63760" y="2247840"/>
            <a:ext cx="44942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6204240" y="3504600"/>
            <a:ext cx="41940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 SUPPLY CIRC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97880" y="2263680"/>
            <a:ext cx="4554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97880" y="2975040"/>
            <a:ext cx="4554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7880" y="4422600"/>
            <a:ext cx="455400" cy="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5040" y="28242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B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5740560"/>
            <a:ext cx="6935760" cy="661680"/>
          </a:xfrm>
          <a:custGeom>
            <a:avLst/>
            <a:gdLst/>
            <a:ahLst/>
            <a:rect l="l" t="t" r="r" b="b"/>
            <a:pathLst>
              <a:path w="4369" h="417">
                <a:moveTo>
                  <a:pt x="0" y="416"/>
                </a:moveTo>
                <a:lnTo>
                  <a:pt x="4368" y="416"/>
                </a:lnTo>
                <a:lnTo>
                  <a:pt x="436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94440" y="3516480"/>
            <a:ext cx="121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fety Sign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6319800" y="3327480"/>
            <a:ext cx="1112760" cy="382680"/>
            <a:chOff x="6319800" y="3327480"/>
            <a:chExt cx="1112760" cy="382680"/>
          </a:xfrm>
        </p:grpSpPr>
        <p:grpSp>
          <p:nvGrpSpPr>
            <p:cNvPr id="637" name=""/>
            <p:cNvGrpSpPr/>
            <p:nvPr/>
          </p:nvGrpSpPr>
          <p:grpSpPr>
            <a:xfrm>
              <a:off x="6319800" y="3327480"/>
              <a:ext cx="125280" cy="382680"/>
              <a:chOff x="6319800" y="3327480"/>
              <a:chExt cx="125280" cy="38268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6330960" y="3346560"/>
                <a:ext cx="114120" cy="363600"/>
                <a:chOff x="6330960" y="3346560"/>
                <a:chExt cx="114120" cy="363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6330960" y="334656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330960" y="366084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330960" y="361332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30960" y="357516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330960" y="352728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330960" y="347832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330960" y="3373560"/>
                  <a:ext cx="7632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6319800" y="3327480"/>
                <a:ext cx="115920" cy="363600"/>
                <a:chOff x="6319800" y="3327480"/>
                <a:chExt cx="115920" cy="36360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6321600" y="332748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321600" y="364176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321600" y="359424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21600" y="3546360"/>
                  <a:ext cx="759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319800" y="3506760"/>
                  <a:ext cx="763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321600" y="345924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321600" y="3344760"/>
                  <a:ext cx="7596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4" name=""/>
            <p:cNvGrpSpPr/>
            <p:nvPr/>
          </p:nvGrpSpPr>
          <p:grpSpPr>
            <a:xfrm>
              <a:off x="6770520" y="3363840"/>
              <a:ext cx="314640" cy="304920"/>
              <a:chOff x="6770520" y="3363840"/>
              <a:chExt cx="314640" cy="3049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6770520" y="3525840"/>
                <a:ext cx="314640" cy="142920"/>
                <a:chOff x="6770520" y="3525840"/>
                <a:chExt cx="314640" cy="1429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6770520" y="3659040"/>
                  <a:ext cx="31464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770520" y="3649680"/>
                  <a:ext cx="31464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770520" y="3630600"/>
                  <a:ext cx="31464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770520" y="3621240"/>
                  <a:ext cx="31464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770520" y="3611520"/>
                  <a:ext cx="31464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770520" y="3602160"/>
                  <a:ext cx="31464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770520" y="3583080"/>
                  <a:ext cx="31464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770520" y="3573360"/>
                  <a:ext cx="31464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770520" y="3564000"/>
                  <a:ext cx="31464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770520" y="3554280"/>
                  <a:ext cx="31464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770520" y="3535200"/>
                  <a:ext cx="31464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770520" y="3525840"/>
                  <a:ext cx="31464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6770520" y="3363840"/>
                <a:ext cx="314640" cy="152640"/>
                <a:chOff x="6770520" y="3363840"/>
                <a:chExt cx="314640" cy="1526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6770520" y="3506760"/>
                  <a:ext cx="31464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770520" y="3487680"/>
                  <a:ext cx="31464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770520" y="3478320"/>
                  <a:ext cx="31464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770520" y="3468600"/>
                  <a:ext cx="31464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770520" y="3449520"/>
                  <a:ext cx="31464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770520" y="3440160"/>
                  <a:ext cx="31464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770520" y="3430440"/>
                  <a:ext cx="31464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770520" y="3411360"/>
                  <a:ext cx="31464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770520" y="3402000"/>
                  <a:ext cx="31464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770520" y="3392640"/>
                  <a:ext cx="31464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770520" y="3373560"/>
                  <a:ext cx="31464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770520" y="3363840"/>
                  <a:ext cx="31464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" name=""/>
            <p:cNvGrpSpPr/>
            <p:nvPr/>
          </p:nvGrpSpPr>
          <p:grpSpPr>
            <a:xfrm>
              <a:off x="7113600" y="3363840"/>
              <a:ext cx="314280" cy="304920"/>
              <a:chOff x="7113600" y="3363840"/>
              <a:chExt cx="314280" cy="3049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7113600" y="3525840"/>
                <a:ext cx="314280" cy="142920"/>
                <a:chOff x="7113600" y="3525840"/>
                <a:chExt cx="314280" cy="14292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7113600" y="36590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113600" y="3649680"/>
                  <a:ext cx="31428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113600" y="363060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113600" y="362124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113600" y="361152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13600" y="3602160"/>
                  <a:ext cx="31428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113600" y="358308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113600" y="357336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113600" y="356400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113600" y="355428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113600" y="353520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113600" y="352584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7113600" y="3363840"/>
                <a:ext cx="314280" cy="152640"/>
                <a:chOff x="7113600" y="3363840"/>
                <a:chExt cx="314280" cy="15264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7113600" y="350676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113600" y="348768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113600" y="347832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113600" y="346860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113600" y="344952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113600" y="344016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113600" y="343044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113600" y="341136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113600" y="340200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113600" y="339264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113600" y="33735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113600" y="33638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"/>
            <p:cNvGrpSpPr/>
            <p:nvPr/>
          </p:nvGrpSpPr>
          <p:grpSpPr>
            <a:xfrm>
              <a:off x="6424560" y="3363840"/>
              <a:ext cx="314280" cy="304920"/>
              <a:chOff x="6424560" y="3363840"/>
              <a:chExt cx="314280" cy="3049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6424560" y="3525840"/>
                <a:ext cx="314280" cy="142920"/>
                <a:chOff x="6424560" y="3525840"/>
                <a:chExt cx="314280" cy="1429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424560" y="36590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424560" y="3649680"/>
                  <a:ext cx="314280" cy="936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424560" y="3630600"/>
                  <a:ext cx="314280" cy="1908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424560" y="362124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424560" y="361152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424560" y="3602160"/>
                  <a:ext cx="314280" cy="936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24560" y="358308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24560" y="3573360"/>
                  <a:ext cx="314280" cy="972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24560" y="3564000"/>
                  <a:ext cx="314280" cy="936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424560" y="3554280"/>
                  <a:ext cx="314280" cy="972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424560" y="353520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424560" y="352584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424560" y="3363840"/>
                <a:ext cx="314280" cy="152640"/>
                <a:chOff x="6424560" y="3363840"/>
                <a:chExt cx="314280" cy="15264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424560" y="350676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424560" y="348768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424560" y="347832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424560" y="3468600"/>
                  <a:ext cx="314280" cy="972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424560" y="344952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424560" y="344016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424560" y="343044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424560" y="341136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424560" y="340200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424560" y="3392640"/>
                  <a:ext cx="314280" cy="936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4560" y="33735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424560" y="3363840"/>
                  <a:ext cx="314280" cy="972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5" name=""/>
            <p:cNvSpPr/>
            <p:nvPr/>
          </p:nvSpPr>
          <p:spPr>
            <a:xfrm>
              <a:off x="6438960" y="3479760"/>
              <a:ext cx="304920" cy="763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37160" y="3338640"/>
              <a:ext cx="995400" cy="366480"/>
            </a:xfrm>
            <a:prstGeom prst="rect">
              <a:avLst/>
            </a:prstGeom>
            <a:solidFill>
              <a:srgbClr val="00279f">
                <a:alpha val="50000"/>
              </a:srgbClr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6319800" y="4786200"/>
            <a:ext cx="1112760" cy="382680"/>
            <a:chOff x="6319800" y="4786200"/>
            <a:chExt cx="1112760" cy="382680"/>
          </a:xfrm>
        </p:grpSpPr>
        <p:grpSp>
          <p:nvGrpSpPr>
            <p:cNvPr id="738" name=""/>
            <p:cNvGrpSpPr/>
            <p:nvPr/>
          </p:nvGrpSpPr>
          <p:grpSpPr>
            <a:xfrm>
              <a:off x="6319800" y="4786200"/>
              <a:ext cx="125280" cy="382680"/>
              <a:chOff x="6319800" y="4786200"/>
              <a:chExt cx="125280" cy="382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6330960" y="4805280"/>
                <a:ext cx="114120" cy="363600"/>
                <a:chOff x="6330960" y="4805280"/>
                <a:chExt cx="114120" cy="363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330960" y="480528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330960" y="5119560"/>
                  <a:ext cx="763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330960" y="5072040"/>
                  <a:ext cx="763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330960" y="503388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330960" y="4986360"/>
                  <a:ext cx="76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330960" y="4937040"/>
                  <a:ext cx="763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330960" y="4832280"/>
                  <a:ext cx="7632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6319800" y="4786200"/>
                <a:ext cx="115920" cy="363600"/>
                <a:chOff x="6319800" y="4786200"/>
                <a:chExt cx="115920" cy="3636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6321600" y="4786200"/>
                  <a:ext cx="114120" cy="3636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321600" y="510048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321600" y="5052960"/>
                  <a:ext cx="759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321600" y="5005440"/>
                  <a:ext cx="759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319800" y="4965840"/>
                  <a:ext cx="763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321600" y="4917960"/>
                  <a:ext cx="7596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321600" y="4803840"/>
                  <a:ext cx="75960" cy="66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5" name=""/>
            <p:cNvGrpSpPr/>
            <p:nvPr/>
          </p:nvGrpSpPr>
          <p:grpSpPr>
            <a:xfrm>
              <a:off x="6770520" y="4822920"/>
              <a:ext cx="314640" cy="304560"/>
              <a:chOff x="6770520" y="4822920"/>
              <a:chExt cx="314640" cy="30456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6770520" y="4984920"/>
                <a:ext cx="314640" cy="142560"/>
                <a:chOff x="6770520" y="4984920"/>
                <a:chExt cx="314640" cy="142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6770520" y="5118120"/>
                  <a:ext cx="31464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770520" y="5108400"/>
                  <a:ext cx="31464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770520" y="5089680"/>
                  <a:ext cx="314640" cy="1872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770520" y="5079960"/>
                  <a:ext cx="31464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770520" y="5070600"/>
                  <a:ext cx="31464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770520" y="5060880"/>
                  <a:ext cx="31464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770520" y="5041800"/>
                  <a:ext cx="31464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770520" y="5032440"/>
                  <a:ext cx="31464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770520" y="5022720"/>
                  <a:ext cx="31464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770520" y="5013360"/>
                  <a:ext cx="314640" cy="936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770520" y="4994280"/>
                  <a:ext cx="31464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70520" y="4984920"/>
                  <a:ext cx="31464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770520" y="4822920"/>
                <a:ext cx="314640" cy="152280"/>
                <a:chOff x="6770520" y="4822920"/>
                <a:chExt cx="314640" cy="15228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770520" y="4965840"/>
                  <a:ext cx="31464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770520" y="4946760"/>
                  <a:ext cx="31464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770520" y="4937040"/>
                  <a:ext cx="31464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770520" y="4927680"/>
                  <a:ext cx="31464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770520" y="4908600"/>
                  <a:ext cx="31464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770520" y="4898880"/>
                  <a:ext cx="31464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770520" y="4889520"/>
                  <a:ext cx="31464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70520" y="4870440"/>
                  <a:ext cx="31464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770520" y="4861080"/>
                  <a:ext cx="31464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770520" y="4851360"/>
                  <a:ext cx="31464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770520" y="4832280"/>
                  <a:ext cx="31464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770520" y="4822920"/>
                  <a:ext cx="31464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7113600" y="4822920"/>
              <a:ext cx="314280" cy="304560"/>
              <a:chOff x="7113600" y="4822920"/>
              <a:chExt cx="314280" cy="30456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7113600" y="4984920"/>
                <a:ext cx="314280" cy="142560"/>
                <a:chOff x="7113600" y="4984920"/>
                <a:chExt cx="314280" cy="1425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7113600" y="51181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113600" y="5108400"/>
                  <a:ext cx="31428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113600" y="5089680"/>
                  <a:ext cx="314280" cy="1872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113600" y="507996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113600" y="507060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113600" y="5060880"/>
                  <a:ext cx="31428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113600" y="504180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113600" y="503244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113600" y="502272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113600" y="5013360"/>
                  <a:ext cx="314280" cy="936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113600" y="499428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113600" y="49849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113600" y="4822920"/>
                <a:ext cx="314280" cy="152280"/>
                <a:chOff x="7113600" y="4822920"/>
                <a:chExt cx="314280" cy="15228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113600" y="496584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113600" y="49467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113600" y="493704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113600" y="492768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113600" y="49086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113600" y="489888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113600" y="488952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113600" y="487044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113600" y="486108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113600" y="485136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113600" y="483228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113600" y="48229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9" name=""/>
            <p:cNvGrpSpPr/>
            <p:nvPr/>
          </p:nvGrpSpPr>
          <p:grpSpPr>
            <a:xfrm>
              <a:off x="6424560" y="4822920"/>
              <a:ext cx="314280" cy="304560"/>
              <a:chOff x="6424560" y="4822920"/>
              <a:chExt cx="314280" cy="30456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6424560" y="4984920"/>
                <a:ext cx="314280" cy="142560"/>
                <a:chOff x="6424560" y="4984920"/>
                <a:chExt cx="314280" cy="1425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6424560" y="51181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424560" y="5108400"/>
                  <a:ext cx="314280" cy="9720"/>
                </a:xfrm>
                <a:prstGeom prst="rect">
                  <a:avLst/>
                </a:prstGeom>
                <a:solidFill>
                  <a:srgbClr val="a56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424560" y="5089680"/>
                  <a:ext cx="314280" cy="18720"/>
                </a:xfrm>
                <a:prstGeom prst="rect">
                  <a:avLst/>
                </a:prstGeom>
                <a:solidFill>
                  <a:srgbClr val="c17e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424560" y="507996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24560" y="507060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424560" y="5060880"/>
                  <a:ext cx="314280" cy="9720"/>
                </a:xfrm>
                <a:prstGeom prst="rect">
                  <a:avLst/>
                </a:prstGeom>
                <a:solidFill>
                  <a:srgbClr val="faa4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424560" y="5041800"/>
                  <a:ext cx="314280" cy="19080"/>
                </a:xfrm>
                <a:prstGeom prst="rect">
                  <a:avLst/>
                </a:prstGeom>
                <a:solidFill>
                  <a:srgbClr val="fda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24560" y="5032440"/>
                  <a:ext cx="314280" cy="9360"/>
                </a:xfrm>
                <a:prstGeom prst="rect">
                  <a:avLst/>
                </a:prstGeom>
                <a:solidFill>
                  <a:srgbClr val="f19e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24560" y="5022720"/>
                  <a:ext cx="314280" cy="9720"/>
                </a:xfrm>
                <a:prstGeom prst="rect">
                  <a:avLst/>
                </a:prstGeom>
                <a:solidFill>
                  <a:srgbClr val="e19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24560" y="5013360"/>
                  <a:ext cx="314280" cy="9360"/>
                </a:xfrm>
                <a:prstGeom prst="rect">
                  <a:avLst/>
                </a:prstGeom>
                <a:solidFill>
                  <a:srgbClr val="cc85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424560" y="4994280"/>
                  <a:ext cx="314280" cy="19080"/>
                </a:xfrm>
                <a:prstGeom prst="rect">
                  <a:avLst/>
                </a:prstGeom>
                <a:solidFill>
                  <a:srgbClr val="ad7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424560" y="49849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424560" y="4822920"/>
                <a:ext cx="314280" cy="152280"/>
                <a:chOff x="6424560" y="4822920"/>
                <a:chExt cx="314280" cy="1522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424560" y="496584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424560" y="494676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424560" y="493704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424560" y="492768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424560" y="490860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424560" y="4898880"/>
                  <a:ext cx="314280" cy="972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24560" y="4889520"/>
                  <a:ext cx="314280" cy="9360"/>
                </a:xfrm>
                <a:prstGeom prst="rect">
                  <a:avLst/>
                </a:prstGeom>
                <a:solidFill>
                  <a:srgbClr val="fda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424560" y="4870440"/>
                  <a:ext cx="314280" cy="19080"/>
                </a:xfrm>
                <a:prstGeom prst="rect">
                  <a:avLst/>
                </a:prstGeom>
                <a:solidFill>
                  <a:srgbClr val="f39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424560" y="4861080"/>
                  <a:ext cx="314280" cy="9360"/>
                </a:xfrm>
                <a:prstGeom prst="rect">
                  <a:avLst/>
                </a:prstGeom>
                <a:solidFill>
                  <a:srgbClr val="dc90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424560" y="4851360"/>
                  <a:ext cx="314280" cy="9720"/>
                </a:xfrm>
                <a:prstGeom prst="rect">
                  <a:avLst/>
                </a:prstGeom>
                <a:solidFill>
                  <a:srgbClr val="c782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424560" y="4832280"/>
                  <a:ext cx="314280" cy="19080"/>
                </a:xfrm>
                <a:prstGeom prst="rect">
                  <a:avLst/>
                </a:prstGeom>
                <a:solidFill>
                  <a:srgbClr val="aa6f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424560" y="4822920"/>
                  <a:ext cx="314280" cy="9360"/>
                </a:xfrm>
                <a:prstGeom prst="rect">
                  <a:avLst/>
                </a:prstGeom>
                <a:solidFill>
                  <a:srgbClr val="9b65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6438960" y="4938840"/>
              <a:ext cx="304920" cy="75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37160" y="4797360"/>
              <a:ext cx="995400" cy="366840"/>
            </a:xfrm>
            <a:prstGeom prst="rect">
              <a:avLst/>
            </a:prstGeom>
            <a:solidFill>
              <a:srgbClr val="00279f">
                <a:alpha val="50000"/>
              </a:srgbClr>
            </a:solidFill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Architectural Enhancements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ultaneous charge and disch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designs acceptable as long as they conform to the common interfa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for more product differenti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utilize existing SBS components such as SBS and SB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99812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Manag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6172200"/>
            <a:ext cx="79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roducts, plans and dates are preliminary and subject to change without any not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Call to Action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ed on the SBS Implementers website http://www.sbs-forum.or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nts invited to review and comment on specif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 comments (feedback@sbs-forum.or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ation will be finalized by the end of the ye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99812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Manag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172200"/>
            <a:ext cx="79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roducts, plans and dates are preliminary and subject to change without any not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5c300"/>
                </a:solidFill>
                <a:latin typeface="Arial"/>
              </a:rPr>
              <a:t>Back Up</a:t>
            </a:r>
            <a:endParaRPr b="1" lang="en-US" sz="7200" spc="-1" strike="noStrike">
              <a:solidFill>
                <a:srgbClr val="f5c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943280"/>
            <a:ext cx="2057400" cy="2133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mart Battery System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095560"/>
            <a:ext cx="175284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PI EC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3086280"/>
            <a:ext cx="1752840" cy="838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Bus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0440" y="3467160"/>
            <a:ext cx="434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0240" y="29718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1160" y="3849840"/>
            <a:ext cx="2058120" cy="824040"/>
          </a:xfrm>
          <a:prstGeom prst="rect">
            <a:avLst/>
          </a:prstGeom>
          <a:solidFill>
            <a:srgbClr val="97b5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 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848040"/>
            <a:ext cx="1981080" cy="11898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 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8600" y="5489640"/>
            <a:ext cx="1168200" cy="8240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4520" y="5477040"/>
            <a:ext cx="1168200" cy="8240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m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4687920"/>
            <a:ext cx="0" cy="76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502240" y="4687920"/>
            <a:ext cx="0" cy="76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4229280"/>
            <a:ext cx="37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76920" y="3468600"/>
            <a:ext cx="0" cy="37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1828800"/>
            <a:ext cx="304560" cy="3049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726080"/>
            <a:ext cx="0" cy="760320"/>
          </a:xfrm>
          <a:prstGeom prst="line">
            <a:avLst/>
          </a:prstGeom>
          <a:ln w="25560">
            <a:solidFill>
              <a:srgbClr val="de1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713120"/>
            <a:ext cx="0" cy="760680"/>
          </a:xfrm>
          <a:prstGeom prst="line">
            <a:avLst/>
          </a:prstGeom>
          <a:ln w="25560">
            <a:solidFill>
              <a:srgbClr val="de1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347840" y="4495680"/>
            <a:ext cx="2589120" cy="0"/>
          </a:xfrm>
          <a:prstGeom prst="line">
            <a:avLst/>
          </a:prstGeom>
          <a:ln w="25560">
            <a:solidFill>
              <a:srgbClr val="de15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8680"/>
            <a:ext cx="0" cy="1141200"/>
          </a:xfrm>
          <a:prstGeom prst="line">
            <a:avLst/>
          </a:prstGeom>
          <a:ln w="25560">
            <a:solidFill>
              <a:srgbClr val="de15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276720"/>
            <a:ext cx="1677960" cy="534960"/>
          </a:xfrm>
          <a:custGeom>
            <a:avLst/>
            <a:gdLst/>
            <a:ahLst/>
            <a:rect l="l" t="t" r="r" b="b"/>
            <a:pathLst>
              <a:path w="1057" h="337">
                <a:moveTo>
                  <a:pt x="0" y="0"/>
                </a:moveTo>
                <a:lnTo>
                  <a:pt x="1056" y="0"/>
                </a:lnTo>
                <a:lnTo>
                  <a:pt x="1056" y="336"/>
                </a:lnTo>
              </a:path>
            </a:pathLst>
          </a:custGeom>
          <a:noFill/>
          <a:ln cap="rnd" w="25560">
            <a:solidFill>
              <a:srgbClr val="de15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49120" y="1752480"/>
            <a:ext cx="132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1440" y="1790640"/>
            <a:ext cx="195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BS specif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7280" y="2336760"/>
            <a:ext cx="21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PI specif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194000"/>
            <a:ext cx="6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49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MBus Host View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t interfaces to the SBS through four nib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nibble communicates status and controls up to 4 batt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4080" y="4545000"/>
            <a:ext cx="1209960" cy="1159200"/>
            <a:chOff x="1954080" y="4545000"/>
            <a:chExt cx="1209960" cy="1159200"/>
          </a:xfrm>
        </p:grpSpPr>
        <p:sp>
          <p:nvSpPr>
            <p:cNvPr id="78" name=""/>
            <p:cNvSpPr/>
            <p:nvPr/>
          </p:nvSpPr>
          <p:spPr>
            <a:xfrm>
              <a:off x="1954080" y="4545000"/>
              <a:ext cx="120996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M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/w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System SM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communication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960200" y="5459400"/>
              <a:ext cx="1199160" cy="244800"/>
              <a:chOff x="1960200" y="5459400"/>
              <a:chExt cx="1199160" cy="244800"/>
            </a:xfrm>
          </p:grpSpPr>
          <p:sp>
            <p:nvSpPr>
              <p:cNvPr id="80" name=""/>
              <p:cNvSpPr/>
              <p:nvPr/>
            </p:nvSpPr>
            <p:spPr>
              <a:xfrm>
                <a:off x="196020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980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8084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9044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3159000" y="4545000"/>
            <a:ext cx="1209960" cy="1159200"/>
            <a:chOff x="3159000" y="4545000"/>
            <a:chExt cx="1209960" cy="1159200"/>
          </a:xfrm>
        </p:grpSpPr>
        <p:sp>
          <p:nvSpPr>
            <p:cNvPr id="85" name=""/>
            <p:cNvSpPr/>
            <p:nvPr/>
          </p:nvSpPr>
          <p:spPr>
            <a:xfrm>
              <a:off x="3159000" y="4545000"/>
              <a:ext cx="120996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WER_B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/w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System 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power &amp; comm.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165120" y="5459400"/>
              <a:ext cx="1199160" cy="244800"/>
              <a:chOff x="3165120" y="5459400"/>
              <a:chExt cx="1199160" cy="244800"/>
            </a:xfrm>
          </p:grpSpPr>
          <p:sp>
            <p:nvSpPr>
              <p:cNvPr id="87" name=""/>
              <p:cNvSpPr/>
              <p:nvPr/>
            </p:nvSpPr>
            <p:spPr>
              <a:xfrm>
                <a:off x="316512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47472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8576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9536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4365720" y="4545000"/>
            <a:ext cx="1209600" cy="1159200"/>
            <a:chOff x="4365720" y="4545000"/>
            <a:chExt cx="1209600" cy="1159200"/>
          </a:xfrm>
        </p:grpSpPr>
        <p:sp>
          <p:nvSpPr>
            <p:cNvPr id="92" name=""/>
            <p:cNvSpPr/>
            <p:nvPr/>
          </p:nvSpPr>
          <p:spPr>
            <a:xfrm>
              <a:off x="4365720" y="4545000"/>
              <a:ext cx="120960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/w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connect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 Charg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power &amp; comm.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371840" y="5459400"/>
              <a:ext cx="1198800" cy="244800"/>
              <a:chOff x="4371840" y="5459400"/>
              <a:chExt cx="1198800" cy="244800"/>
            </a:xfrm>
          </p:grpSpPr>
          <p:sp>
            <p:nvSpPr>
              <p:cNvPr id="94" name=""/>
              <p:cNvSpPr/>
              <p:nvPr/>
            </p:nvSpPr>
            <p:spPr>
              <a:xfrm>
                <a:off x="437184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8144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9212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0172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5572080" y="4545000"/>
            <a:ext cx="1209600" cy="1159200"/>
            <a:chOff x="5572080" y="4545000"/>
            <a:chExt cx="1209600" cy="1159200"/>
          </a:xfrm>
        </p:grpSpPr>
        <p:sp>
          <p:nvSpPr>
            <p:cNvPr id="99" name=""/>
            <p:cNvSpPr/>
            <p:nvPr/>
          </p:nvSpPr>
          <p:spPr>
            <a:xfrm>
              <a:off x="5572080" y="4545000"/>
              <a:ext cx="120960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ES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attery (s) pres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578200" y="5459400"/>
              <a:ext cx="1199160" cy="244800"/>
              <a:chOff x="5578200" y="5459400"/>
              <a:chExt cx="1199160" cy="244800"/>
            </a:xfrm>
          </p:grpSpPr>
          <p:sp>
            <p:nvSpPr>
              <p:cNvPr id="101" name=""/>
              <p:cNvSpPr/>
              <p:nvPr/>
            </p:nvSpPr>
            <p:spPr>
              <a:xfrm>
                <a:off x="557820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87800" y="5459400"/>
                <a:ext cx="27648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9884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08440" y="5459400"/>
                <a:ext cx="268920" cy="244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BS Data Flow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path of communication with the charg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s simultaneous charging of several batte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ost communicates with one battery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4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d information from all batteries requires polling (higher power consump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fined responsibility of power system configuration and fixed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4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99812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Battery System Manag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172200"/>
            <a:ext cx="79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roducts, plans and dates are preliminary and subject to change without any not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Smart Battery System Manager Overview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spec that abstracted the battery system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when and which battery(s) to 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when and which battery(s) to dis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e battery system interface to 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 embodied in SBS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 more flexibility in battery system implem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Key Concepts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Battery System Manager replaces sele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set of the existing selector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set of required selector function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more design flexi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 details hidden from the 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901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y system architecture less lim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f5c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for simultaneous battery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51"/>
              </a:spcBef>
              <a:buClr>
                <a:srgbClr val="f5c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for autonomous battery conditioning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2080" y="45684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</a:rPr>
              <a:t>Key Concepts (cont.)</a:t>
            </a:r>
            <a:endParaRPr b="1" lang="en-US" sz="4800" spc="-1" strike="noStrike">
              <a:solidFill>
                <a:srgbClr val="f5c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1800" y="180936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3000"/>
              </a:lnSpc>
              <a:spcBef>
                <a:spcPts val="1199"/>
              </a:spcBef>
              <a:buClr>
                <a:srgbClr val="f5c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architectures add additional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s the concept of a “composite” batt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ttery data is NOT lin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BSM must have ability to composite battery inform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f5c3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 still needs useable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20:00:34Z</dcterms:created>
  <dc:creator>Robert A. Dunstan</dc:creator>
  <dc:description/>
  <dc:language>en-US</dc:language>
  <cp:lastModifiedBy>Robert A. Dunstan</cp:lastModifiedBy>
  <cp:lastPrinted>1998-08-26T02:34:38Z</cp:lastPrinted>
  <dcterms:modified xsi:type="dcterms:W3CDTF">1998-10-21T09:40:12Z</dcterms:modified>
  <cp:revision>52</cp:revision>
  <dc:subject/>
  <dc:title>Smart Battery System - IDF Introduction</dc:title>
</cp:coreProperties>
</file>