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ECC3-BF7D-42BF-8470-412FC3AD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916-9D15-40B5-9C67-A22FB9FE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AF5-CE89-4EDD-A7B4-F46982E0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66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3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DC73-0149-4247-9E5E-7C3FAED5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7ECE-88B9-49A8-871E-89B01B11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583-8631-4CEB-BC9B-59889DED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359D-DED7-4BDC-910A-7222CD6E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EBE9-1905-48C2-96F8-686C2033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6F5-12B6-4CE4-A37E-0306C4D6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2DFA-AD57-4C68-A5AD-8746E852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ABEB-A881-43DA-9E7A-15861141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E05-A5C4-42D6-B042-544FE0BD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C784-AD19-4955-9912-D1C35D0D1418}" type="slidenum">
              <a:rPr b="0" lang="ja-JP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3840" cy="68706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 Black"/>
              </a:rPr>
              <a:t>SBS Smart Battery Data Working Group      </a:t>
            </a:r>
            <a:r>
              <a:rPr b="0" i="1" lang="en-US" sz="1600" spc="-1" strike="noStrike">
                <a:solidFill>
                  <a:srgbClr val="0000cc"/>
                </a:solidFill>
                <a:latin typeface="Arial Black"/>
              </a:rPr>
              <a:t>	</a:t>
            </a:r>
            <a:r>
              <a:rPr b="0" i="1" lang="en-US" sz="1600" spc="-1" strike="noStrike">
                <a:solidFill>
                  <a:srgbClr val="0000cc"/>
                </a:solidFill>
                <a:latin typeface="Arial Black"/>
              </a:rPr>
              <a:t> SBS - Implementers Forum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5340000">
            <a:off x="-1611360" y="2475000"/>
            <a:ext cx="3647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SBS IF Working Group Presentation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1523880" y="1397160"/>
          <a:ext cx="6108840" cy="407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397160"/>
                    <a:ext cx="610884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" name="" descr=""/>
          <p:cNvPicPr/>
          <p:nvPr/>
        </p:nvPicPr>
        <p:blipFill>
          <a:blip r:embed="rId5"/>
          <a:stretch/>
        </p:blipFill>
        <p:spPr>
          <a:xfrm>
            <a:off x="8077320" y="4876920"/>
            <a:ext cx="873000" cy="1218960"/>
          </a:xfrm>
          <a:prstGeom prst="rect">
            <a:avLst/>
          </a:prstGeom>
          <a:ln w="0">
            <a:noFill/>
          </a:ln>
        </p:spPr>
      </p:pic>
      <p:pic>
        <p:nvPicPr>
          <p:cNvPr id="11" name="vine_leaf2" descr=""/>
          <p:cNvPicPr/>
          <p:nvPr/>
        </p:nvPicPr>
        <p:blipFill>
          <a:blip r:embed="rId6"/>
          <a:stretch/>
        </p:blipFill>
        <p:spPr>
          <a:xfrm>
            <a:off x="457200" y="4876920"/>
            <a:ext cx="812880" cy="121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8377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BS- IF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mart Battery Data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cification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(SBData) Working Group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19520" y="3276360"/>
            <a:ext cx="36576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n Fri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PowerSmart, Inc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概略 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54380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BDData 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仕様書を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1.1 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に更新する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pdate SBData Spec to V1.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1.0 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との互換性を保つ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ckward Compatible to V1. 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機能変更を最小限にする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nimal changes to functionalit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動作やＳＢシステム相互作用をよりはっきり明記する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fine operation and SB System interactions more clearl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提案されてる変更項目</a:t>
            </a:r>
            <a:br>
              <a:rPr sz="4400"/>
            </a:b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posed Revisions to Spe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SzPct val="144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スマートチャージャに安全信号 （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端子）を追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requirement for Safety Signal (T-pin) support for Smart Charger us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armWarning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を禁止する制御ビットを追加する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tteryMode 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の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ARM_MODE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control bit to disable AlarmWarning broadcasts (ALARM_ MODE in BatteryMode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SzPct val="144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提案： ホストは１０秒ごとに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tteryStatus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を読まなければ ならない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al: Host must read BatteryStatus every 10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提案されてる変更項目</a:t>
            </a:r>
            <a:br>
              <a:rPr sz="4400"/>
            </a:b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posed Revisions to Spe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SzPct val="144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充電電圧および充電電流に誤差とリップルの規定をもうける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tolerances and ripple limits to  ChargingVoltage &amp; ChargingCurren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SzPct val="144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提案誤差： 公称容量の 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90%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ed Tolerance: 90% of DesignCapacit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SzPct val="144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提案リップル：公称容量の 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0.2%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ed Ripple: 0.2% of DesignCapacit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tteryMode, BatteryStatus &amp; AlarmWarning 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の制御及びステータスビットの定義及び説明を拡充する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anded descriptions and definitions for control and status bits in: BatteryMode BatteryStatus &amp; AlarmWarning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提案されてる変更項目</a:t>
            </a:r>
            <a:br>
              <a:rPr sz="4400"/>
            </a:b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posed Revisions to Spe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Rate 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定義及び使用方法を拡充する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xpanded AtRate definitions and usag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ycleCoun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を再定義する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- defined CycleCount definition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SzPct val="144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提案： 満充電状態後、絶対容量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OC)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15%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減少を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１サイクルとする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al: A 15% Decrease in Absolute SOC following a FullyCharged condition = 1 Cycl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SzPct val="144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マルチ命令がセット・リセットされたときの機能、意味を明確化する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arified multiple commands, functions, and their meaning when set, cleared,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提案されてる変更項目</a:t>
            </a:r>
            <a:br>
              <a:rPr sz="4400"/>
            </a:b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posed Revisions to Spe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61048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スマート・バッテリーへの要求のポーリング・タイミング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lling/Timing of requests to Smart Batter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SzPct val="144000"/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ＭＳ Ｐゴシック"/>
              </a:rPr>
              <a:t>対策案： スマート・バッテリーが演算のための時間が必要であれば、最小時間を定めない。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ＭＳ Ｐゴシック"/>
              </a:rPr>
              <a:t>   </a:t>
            </a:r>
            <a:r>
              <a:rPr b="0" lang="ja-JP" sz="2400" spc="-1" strike="noStrike">
                <a:solidFill>
                  <a:srgbClr val="ffff00"/>
                </a:solidFill>
                <a:latin typeface="ＭＳ Ｐゴシック"/>
              </a:rPr>
              <a:t>自分のアドレス直後のバイトをＮＡＣＫにすることができ、かつ、またはクロックを最大</a:t>
            </a:r>
            <a:r>
              <a:rPr b="0" lang="ja-JP" sz="2400" spc="-1" strike="noStrike">
                <a:solidFill>
                  <a:srgbClr val="ffff00"/>
                </a:solidFill>
                <a:latin typeface="ＭＳ Ｐゴシック"/>
              </a:rPr>
              <a:t>25</a:t>
            </a:r>
            <a:r>
              <a:rPr b="0" lang="en-US" sz="2400" spc="-1" strike="noStrike">
                <a:solidFill>
                  <a:srgbClr val="ffff00"/>
                </a:solidFill>
                <a:latin typeface="ＭＳ Ｐゴシック"/>
              </a:rPr>
              <a:t>mS </a:t>
            </a:r>
            <a:r>
              <a:rPr b="0" lang="ja-JP" sz="2400" spc="-1" strike="noStrike">
                <a:solidFill>
                  <a:srgbClr val="ffff00"/>
                </a:solidFill>
                <a:latin typeface="ＭＳ Ｐゴシック"/>
              </a:rPr>
              <a:t>（</a:t>
            </a:r>
            <a:r>
              <a:rPr b="0" lang="en-US" sz="2400" spc="-1" strike="noStrike">
                <a:solidFill>
                  <a:srgbClr val="ffff00"/>
                </a:solidFill>
                <a:latin typeface="ＭＳ Ｐゴシック"/>
              </a:rPr>
              <a:t>timeout </a:t>
            </a:r>
            <a:r>
              <a:rPr b="0" lang="ja-JP" sz="2400" spc="-1" strike="noStrike">
                <a:solidFill>
                  <a:srgbClr val="ffff00"/>
                </a:solidFill>
                <a:latin typeface="ＭＳ Ｐゴシック"/>
              </a:rPr>
              <a:t>しない）または最長 </a:t>
            </a:r>
            <a:r>
              <a:rPr b="0" lang="ja-JP" sz="2400" spc="-1" strike="noStrike">
                <a:solidFill>
                  <a:srgbClr val="ffff00"/>
                </a:solidFill>
                <a:latin typeface="ＭＳ Ｐゴシック"/>
              </a:rPr>
              <a:t>35</a:t>
            </a:r>
            <a:r>
              <a:rPr b="0" lang="en-US" sz="2400" spc="-1" strike="noStrike">
                <a:solidFill>
                  <a:srgbClr val="ffff00"/>
                </a:solidFill>
                <a:latin typeface="ＭＳ Ｐゴシック"/>
              </a:rPr>
              <a:t>mS (timeout </a:t>
            </a:r>
            <a:r>
              <a:rPr b="0" lang="ja-JP" sz="2400" spc="-1" strike="noStrike">
                <a:solidFill>
                  <a:srgbClr val="ffff00"/>
                </a:solidFill>
                <a:latin typeface="ＭＳ Ｐゴシック"/>
              </a:rPr>
              <a:t>する） “Ｌ”に保つことができる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ed Solution: No minimum time spec If Smart Battery needs time to perform calculations, it can NACK any byte after it’s own address AND/OR it can hold the CLOCK line low for up to 25mS (without timeout) or up to 35mS (causing timeout.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提案されてる変更項目</a:t>
            </a:r>
            <a:br>
              <a:rPr sz="4400"/>
            </a:b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posed Revisions to Spe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提案： 電流と電圧のサンプル時間、積算時間は定義されるべきである。 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秒以下の範囲？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al: Current and Voltage sampling or integration time should be specified.  Some range &lt; 1 second ?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提案： 測定値 （電流・電圧・平均電流）の更新（測定）は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「適切な時間」（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秒？）以内に行なわれるべきである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osal: Measured values (Current, Voltage, AvgCurrent) should be updated (measured) at ‘reasonable’ time: 5 sec?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提案されてる変更項目</a:t>
            </a:r>
            <a:br>
              <a:rPr sz="4400"/>
            </a:b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posed Revisions to Spe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d-of-Charge 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の順序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d-of-Charge Hierarch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次の条件を一つでも満たせば充電を停止する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op Charging if: ANY ONE OR MORE OCCUR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argingCurrent = 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argingVoltage = 0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tteryStatus or AlarmWarning occurs with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360080" indent="-194040">
              <a:spcBef>
                <a:spcPts val="4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erminateChargeAlarm bit se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360080" indent="-194040">
              <a:spcBef>
                <a:spcPts val="4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verChargeAlarm bit se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360080" indent="-194040">
              <a:spcBef>
                <a:spcPts val="4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verTemperature Alarm bit se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ully_Charged 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ビットはフラグに過ぎない。ビットが立っていても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C 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及び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V 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の要求を出すことはできる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ully_Charged bit is a status flag only.  It may occur and yet CC and CV may still be requested (such as for maintenance charge)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31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提案されてる変更項目</a:t>
            </a:r>
            <a:br>
              <a:rPr sz="4400"/>
            </a:br>
            <a:r>
              <a:rPr b="0" lang="ja-JP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posed Revisions to Spe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nd-of-Discharge 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順序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d-of-Discharge Hierarch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次の場合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ve-to-disk </a:t>
            </a: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を開始する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itiate save-to-disk if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tteryStatus or AlarmWarning occurs with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407960" indent="-200880">
              <a:spcBef>
                <a:spcPts val="4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mainingCapacityAlarm se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407960" indent="-200880">
              <a:spcBef>
                <a:spcPts val="4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mainingTimeAlarm se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00"/>
                </a:solidFill>
                <a:latin typeface="Arial"/>
              </a:rPr>
              <a:t>次の場合放電を停止する：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op discharge when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atteryStatus or AlarmWarning occurs with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3" marL="1407960" indent="-200880">
              <a:spcBef>
                <a:spcPts val="4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erminateDischargeAlarm se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33ff"/>
              </a:buClr>
              <a:buSzPct val="144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ully_Discharged </a:t>
            </a: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はステータスのみである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ully_Discharged is status onl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16:19:44Z</dcterms:created>
  <dc:creator>Robert A. Dunstan</dc:creator>
  <dc:description/>
  <dc:language>en-US</dc:language>
  <cp:lastModifiedBy>広田  敏</cp:lastModifiedBy>
  <cp:lastPrinted>1998-01-16T01:05:10Z</cp:lastPrinted>
  <dcterms:modified xsi:type="dcterms:W3CDTF">1998-10-22T15:05:57Z</dcterms:modified>
  <cp:revision>78</cp:revision>
  <dc:subject/>
  <dc:title>Smart Battery “wg name here”</dc:title>
</cp:coreProperties>
</file>