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0093"/>
              </a:gs>
              <a:gs pos="100000">
                <a:srgbClr val="0000ff"/>
              </a:gs>
            </a:gsLst>
            <a:lin ang="27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781680"/>
            <a:ext cx="9142560" cy="0"/>
          </a:xfrm>
          <a:prstGeom prst="line">
            <a:avLst/>
          </a:prstGeom>
          <a:ln w="255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682120" y="6523200"/>
            <a:ext cx="392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CE8212F0-8C5A-4687-BD19-85702A066BBB}" type="slidenum"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4760" y="111240"/>
            <a:ext cx="533520" cy="500400"/>
            <a:chOff x="104760" y="111240"/>
            <a:chExt cx="533520" cy="500400"/>
          </a:xfrm>
        </p:grpSpPr>
        <p:sp>
          <p:nvSpPr>
            <p:cNvPr id="4" name=""/>
            <p:cNvSpPr/>
            <p:nvPr/>
          </p:nvSpPr>
          <p:spPr>
            <a:xfrm>
              <a:off x="104760" y="453960"/>
              <a:ext cx="267120" cy="157680"/>
            </a:xfrm>
            <a:custGeom>
              <a:avLst/>
              <a:gdLst/>
              <a:ahLst/>
              <a:rect l="0" t="0" r="r" b="b"/>
              <a:pathLst>
                <a:path w="742" h="438">
                  <a:moveTo>
                    <a:pt x="742" y="13"/>
                  </a:moveTo>
                  <a:lnTo>
                    <a:pt x="493" y="438"/>
                  </a:lnTo>
                  <a:lnTo>
                    <a:pt x="0" y="438"/>
                  </a:lnTo>
                  <a:lnTo>
                    <a:pt x="222" y="0"/>
                  </a:lnTo>
                  <a:lnTo>
                    <a:pt x="742" y="0"/>
                  </a:lnTo>
                  <a:lnTo>
                    <a:pt x="742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69720" y="453960"/>
              <a:ext cx="268560" cy="157680"/>
            </a:xfrm>
            <a:custGeom>
              <a:avLst/>
              <a:gdLst/>
              <a:ahLst/>
              <a:rect l="0" t="0" r="r" b="b"/>
              <a:pathLst>
                <a:path w="746" h="438">
                  <a:moveTo>
                    <a:pt x="0" y="13"/>
                  </a:moveTo>
                  <a:lnTo>
                    <a:pt x="243" y="438"/>
                  </a:lnTo>
                  <a:lnTo>
                    <a:pt x="746" y="438"/>
                  </a:lnTo>
                  <a:lnTo>
                    <a:pt x="520" y="0"/>
                  </a:lnTo>
                  <a:lnTo>
                    <a:pt x="0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72880" y="111240"/>
              <a:ext cx="197280" cy="338400"/>
            </a:xfrm>
            <a:custGeom>
              <a:avLst/>
              <a:gdLst/>
              <a:ahLst/>
              <a:rect l="0" t="0" r="r" b="b"/>
              <a:pathLst>
                <a:path w="548" h="940">
                  <a:moveTo>
                    <a:pt x="272" y="0"/>
                  </a:moveTo>
                  <a:lnTo>
                    <a:pt x="0" y="479"/>
                  </a:lnTo>
                  <a:lnTo>
                    <a:pt x="272" y="940"/>
                  </a:lnTo>
                  <a:lnTo>
                    <a:pt x="548" y="46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ff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 txBox="1"/>
          <p:nvPr/>
        </p:nvSpPr>
        <p:spPr>
          <a:xfrm>
            <a:off x="655560" y="198360"/>
            <a:ext cx="6126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TSUBISHI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mart Battery System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mplementation 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0760" y="5438880"/>
            <a:ext cx="85024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TSUBISHI ELECTRIC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TSUBISHI ELECTRIC SYSTEM LSI DESIGN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335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. K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1143000"/>
            <a:ext cx="914256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MBus‚É•¡”‚ÌThermal Device‚ðÚ‘±‚·‚éê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ulti thermal devices connect to SMB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ƒf[ƒ^‚ÌƒŠƒAƒ‹ƒ^ƒCƒ€«’á‰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Not realtim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ƒ^ƒCƒ€ƒAƒEƒg‹@”\‚Ì‚È‚¢ƒfƒoƒCƒX‚É‘Î‚·‚é’ÊMˆÙí”­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Abnormal communication occur with no time out function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½‚ç‚©‚Ì—vˆö‚ÅƒoƒX‚ªƒƒbƒN‚µ‚½ê‡‚»‚ê‚¼‚ê‚Ì’ÊM‚ð‘jŠ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It may cause of bus lock so that communication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SMBus‚ÆThermal Device‚ÌBus‚ð•ª—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(2ŒŽ‚ÌPlugFestˆÈ~Multiple SMBus‚ðƒAƒiƒEƒ“ƒ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¨ Separate thermal device from SM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(Has been proposed by SBS plugfest on FEB./1998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52280" y="990720"/>
            <a:ext cx="883764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  <a:tabLst>
                <a:tab algn="l" pos="784872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ƒ|[ƒŠƒ“ƒO‚ðŽg—p‚¹‚¸ƒoƒbƒeƒŠ‚ÌRSOC‚ÆStatus‚ðŽæ“¾‚·‚éê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45000"/>
              <a:buFont typeface="CP1252"/>
              <a:buChar char=""/>
              <a:tabLst>
                <a:tab algn="l" pos="784872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t using polling method to get  RSOC &amp; Status of smart bat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45000"/>
              <a:buFont typeface="CP1252"/>
              <a:buChar char="-"/>
              <a:tabLst>
                <a:tab algn="l" pos="744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ƒoƒbƒeƒŠ‚©‚ç‚Ì‰ž“š‚ÉŽžŠÔ‚ª‚©‚©‚èABIOS•”•ª‚Åƒ‹[ƒv‚µ‚Ä‚¢‚é‚½‚ß‘¼‚Ì’ÊM(USB,COMƒ|[ƒg‚È‚Ç)‚É‰e‹¿‚ð‹y‚Ú‚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45000"/>
              <a:buFont typeface="CP1252"/>
              <a:buChar char="-"/>
              <a:tabLst>
                <a:tab algn="l" pos="744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IOS will take a time for waiting acknowledge from smart battery. It maybe influence others interface(e.g. USB, COM port)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  <a:tabLst>
                <a:tab algn="l" pos="744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RSOC‚ÆStatus‚ðƒ|[ƒŠƒ“ƒOƒRƒ}ƒ“ƒh‚ÅŽæ“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  <a:tabLst>
                <a:tab algn="l" pos="744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¨ To use polling command of KBC to get RSOC &amp;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838080"/>
            <a:ext cx="9142560" cy="60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ƒVƒ“ƒOƒ‹ƒ}ƒXƒ^‹@”\‚µ‚©‚È‚­AƒNƒƒbƒN“¯Šú‰ñ˜H‚ð‚à‚½‚È‚¢KBC‚ðŽg—p‚·‚éê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he KBC just support single master function without clock 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ƒoƒbƒeƒŠAƒ`ƒƒ[ƒWƒƒŠÔ‚Ì[“dî•ñ‚ð‘jŠQ‚·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It will influence communication between charger and 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Œë‚Á‚½î•ñ‚ðKBC‚ªŽæ“¾‚·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KBC will get wrong information of smart 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Multi-Master‘Î‰ž‚ÌKBC‚ðŽg—p‚·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¨ Using Multi-Master supported K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Master-Only-Host‚ÅŽÀŒ»‚·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¨ Implement Master-Only-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. Smart Cha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320" y="129528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ƒoƒbƒeƒŠ‚É‘Î‚·‚é’ÊM‚ª¬—§‚µ‚È‚¢‚ÆA[“d‚µ‚È‚¢ƒVƒXƒeƒ€‚Ìê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No communicate with battery so that battery can not be cha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ß•ú“dó‘Ô‚ÌƒoƒbƒeƒŠ‚ªÚ‘±‚³‚ê‚½ê‡AƒoƒbƒeƒŠ‚©‚ç[“dî•ñ‚ª‘—M‚³‚ê‚È‚¢‚½‚ß[“d‚Å‚«‚È‚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00"/>
              </a:buClr>
              <a:buSzPct val="45000"/>
              <a:buFont typeface="CP1252"/>
              <a:buChar char="-"/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ystem plug-in a over-discharged battery. Battery can’t send charging information to charger so that no charging active will be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¨ ’ÊM‚ÉŠÖŒW‚È‚­[“d‚ðs‚¤ƒVƒXƒeƒ€‚É‚·‚é(ˆÀ‘S‘Îô‚ÌŒŸ“¢‚ª•K—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¨  Directly do wake up charging to battery without charging information (Safety issue should be conside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¨ ‰ß•ú“dƒoƒbƒeƒŠ‚Ì•œ‹A•û–@ (’ÊMŠÜ‚Þ)‚ªƒJƒ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¨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Wake-up charge method of Over-discharge battery (Including communication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3. Smart Batt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2120" y="1219320"/>
            <a:ext cx="7772400" cy="56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MBus‚ªHi‚É‚È‚ç‚È‚¢‚ÆA•ú“dFET‚ðON‚µ‚È‚¢ê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ischarge FET can’t be turned on, if SM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oesn’t go to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CƒAƒ_ƒvƒ^‚ª‚È‚¯‚ê‚ÎSMBus‚ÍHi‚É‚È‚ç‚¸APC‚Ì“dŒ¹‚ªON‚µ‚È‚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If AC adapter is not present then SMBus never go to high. So that PC can’t be powe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•ú“dFET‚Íí‚É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¨ Discharge FE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ƒoƒbƒeƒŠ’…’EŒŸo‚Ì’[Žq‚ð’Ç‰Á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¨ Implement battery unplug detection pi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04920" y="83808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evel2ƒ`ƒƒ[ƒWƒƒ‚Å’ÊM‚ª‚È‚¢Žž‚ÉƒoƒbƒeƒŠ‚ªƒXƒŠ[ƒvƒ‚[ƒh‚É“ü‚éê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Smart battery enters sleep mode when no communicate with level 2 char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ƒXƒŠ[ƒvƒ‚[ƒh‚É‚È‚é‚Æƒ}ƒXƒ^‘—M‚ðs‚í‚È‚¢‚½‚ß[“d‚³‚ê‚È‚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45000"/>
              <a:buFont typeface="CP1252"/>
              <a:buChar char="-"/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mart battery in sleep mode, if no communication from master side then smart battery can’t be cha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Level3ƒ`ƒƒ[ƒWƒƒ‚ðŽg—p‚·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¨ Using level 3 cha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¨ ƒoƒbƒeƒŠ‚ðƒXƒŠ[ƒv‚³‚¹‚È‚¢Žd—l‚Æ‚·‚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¨ Smart battery never goes to sleep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.Chiba</dc:creator>
  <dc:description/>
  <dc:language>en-US</dc:language>
  <cp:lastModifiedBy>K.Chiba</cp:lastModifiedBy>
  <cp:revision>0</cp:revision>
  <dc:subject/>
  <dc:title>Smart Battery System Check Point for inprementation</dc:title>
</cp:coreProperties>
</file>