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0093"/>
              </a:gs>
              <a:gs pos="100000">
                <a:srgbClr val="0000f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781680"/>
            <a:ext cx="9142560" cy="0"/>
          </a:xfrm>
          <a:prstGeom prst="line">
            <a:avLst/>
          </a:prstGeom>
          <a:ln w="255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682120" y="6523200"/>
            <a:ext cx="392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09052AEC-0F39-42B8-8ACB-5EE237BE8A48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4760" y="111240"/>
            <a:ext cx="533520" cy="500400"/>
            <a:chOff x="104760" y="111240"/>
            <a:chExt cx="533520" cy="500400"/>
          </a:xfrm>
        </p:grpSpPr>
        <p:sp>
          <p:nvSpPr>
            <p:cNvPr id="4" name=""/>
            <p:cNvSpPr/>
            <p:nvPr/>
          </p:nvSpPr>
          <p:spPr>
            <a:xfrm>
              <a:off x="104760" y="453960"/>
              <a:ext cx="267120" cy="157680"/>
            </a:xfrm>
            <a:custGeom>
              <a:avLst/>
              <a:gdLst/>
              <a:ahLst/>
              <a:rect l="0" t="0" r="r" b="b"/>
              <a:pathLst>
                <a:path w="742" h="438">
                  <a:moveTo>
                    <a:pt x="742" y="13"/>
                  </a:moveTo>
                  <a:lnTo>
                    <a:pt x="493" y="438"/>
                  </a:lnTo>
                  <a:lnTo>
                    <a:pt x="0" y="438"/>
                  </a:lnTo>
                  <a:lnTo>
                    <a:pt x="222" y="0"/>
                  </a:lnTo>
                  <a:lnTo>
                    <a:pt x="742" y="0"/>
                  </a:lnTo>
                  <a:lnTo>
                    <a:pt x="74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69720" y="453960"/>
              <a:ext cx="268560" cy="157680"/>
            </a:xfrm>
            <a:custGeom>
              <a:avLst/>
              <a:gdLst/>
              <a:ahLst/>
              <a:rect l="0" t="0" r="r" b="b"/>
              <a:pathLst>
                <a:path w="746" h="438">
                  <a:moveTo>
                    <a:pt x="0" y="13"/>
                  </a:moveTo>
                  <a:lnTo>
                    <a:pt x="243" y="438"/>
                  </a:lnTo>
                  <a:lnTo>
                    <a:pt x="746" y="438"/>
                  </a:lnTo>
                  <a:lnTo>
                    <a:pt x="52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111240"/>
              <a:ext cx="197280" cy="338400"/>
            </a:xfrm>
            <a:custGeom>
              <a:avLst/>
              <a:gdLst/>
              <a:ahLst/>
              <a:rect l="0" t="0" r="r" b="b"/>
              <a:pathLst>
                <a:path w="548" h="940">
                  <a:moveTo>
                    <a:pt x="272" y="0"/>
                  </a:moveTo>
                  <a:lnTo>
                    <a:pt x="0" y="479"/>
                  </a:lnTo>
                  <a:lnTo>
                    <a:pt x="272" y="940"/>
                  </a:lnTo>
                  <a:lnTo>
                    <a:pt x="548" y="46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 txBox="1"/>
          <p:nvPr/>
        </p:nvSpPr>
        <p:spPr>
          <a:xfrm>
            <a:off x="655560" y="198360"/>
            <a:ext cx="612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SUBISHI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rt Battery System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Miss Impr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760" y="5438880"/>
            <a:ext cx="85024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TSUBISHI ELECTRIC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TSUBISHI ELECTRIC SYSTEM LSI DESIGN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K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MBus‚É•¡”‚ÌThermal Device‚ðÚ‘±‚·‚é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f[ƒ^‚ÌƒŠƒAƒ‹ƒ^ƒCƒ€«’á‰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^ƒCƒ€ƒAƒEƒg‹@”\‚Ì‚È‚¢ƒfƒoƒCƒX‚É‘Î‚·‚é’ÊMˆÙí”­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‚ç‚©‚Ì—vˆö‚ÅƒoƒX‚ªƒƒbƒN‚µ‚½ê‡‚»‚ê‚¼‚ê‚Ì’ÊM‚ð‘jŠ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SMBus‚ÆThermal Device‚ÌBus‚ð•ª—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2ŒŽ‚ÌPlugFestˆÈ~Multiple SMBus‚ðƒAƒiƒEƒ“ƒ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83808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ƒ|[ƒŠƒ“ƒO‚ðŽg—p‚¹‚¸ƒoƒbƒeƒŠ‚ÌRSOC‚ÆStatus‚ðŽæ“¾‚·‚é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oƒbƒeƒŠ‚©‚ç‚Ì‰ž“š‚ÉŽžŠÔ‚ª‚©‚©‚èABIOS•”•ª‚Åƒ‹[ƒv‚µ‚Ä‚¢‚é‚½‚ß‘¼‚Ì’ÊM(USB,COMƒ|[ƒg‚È‚Ç)‚É‰e‹¿‚ð‹y‚Ú‚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RSOC‚ÆStatus‚ðƒ|[ƒŠƒ“ƒOƒRƒ}ƒ“ƒh‚ÅŽæ“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ƒVƒ“ƒOƒ‹ƒ}ƒXƒ^‹@”\‚µ‚©‚È‚­AƒNƒƒbƒN“¯Šú‰ñ˜H‚ð‚à‚½‚È‚¢KBC‚ðŽg—p‚·‚é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oƒbƒeƒŠAƒ`ƒƒ[ƒWƒƒŠÔ‚Ì[“dî•ñ‚ð‘jŠQ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Œë‚Á‚½î•ñ‚ðKBC‚ªŽæ“¾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Multi-Master‘Î‰ž‚ÌKBC‚ðŽg—p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Master-Only-Host‚ÅŽÀŒ»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2. Smart Char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ƒoƒbƒeƒŠ‚É‘Î‚·‚é’ÊM‚ª¬—§‚µ‚È‚¢‚ÆA[“d‚µ‚È‚¢ƒVƒXƒeƒ€‚Ì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ß•ú“dó‘Ô‚ÌƒoƒbƒeƒŠ‚ªÚ‘±‚³‚ê‚½ê‡AƒoƒbƒeƒŠ‚©‚ç[“dî•ñ‚ª‘—M‚³‚ê‚È‚¢‚½‚ß[“d‚Å‚«‚È‚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’ÊM‚ÉŠÖŒW‚È‚­[“d‚ðs‚¤ƒVƒXƒeƒ€‚É‚·‚é(ˆÀ‘S‘Îô‚ÌŒŸ“¢‚ª•K—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‰ß•ú“dƒoƒbƒeƒŠ‚ÌŒŸo•û–@‚Æ•œ‹A•û–@(’ÊMŠÜ‚Þ)‚ªƒJƒ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3. Smart Batt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MBus‚ªHi‚É‚È‚ç‚È‚¢‚ÆA•ú“dFET‚ðON‚µ‚È‚¢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ƒAƒ_ƒvƒ^‚ª‚È‚¯‚ê‚ÎSMBus‚ÍHi‚É‚È‚ç‚¸APC‚Ì“dŒ¹‚ªON‚µ‚È‚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•ú“dFET‚Íí‚É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ƒoƒbƒeƒŠ’…’EŒŸo‚Ì’[Žq‚ð’Ç‰Á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990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vel2ƒ`ƒƒ[ƒWƒƒ‚Å’ÊM‚ª‚È‚¢Žž‚ÉƒoƒbƒeƒŠ‚ªƒXƒŠ[ƒvƒ‚[ƒh‚É“ü‚éê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XƒŠ[ƒvƒ‚[ƒh‚É‚È‚é‚Æƒ}ƒXƒ^‘—M‚ðs‚í‚È‚¢‚½‚ß[“d‚³‚ê‚È‚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Level3ƒ`ƒƒ[ƒWƒƒ‚ðŽg—p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ƒoƒbƒeƒŠ‚ðƒXƒŠ[ƒv‚³‚¹‚È‚¢Žd—l‚Æ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.Chiba</dc:creator>
  <dc:description/>
  <dc:language>en-US</dc:language>
  <cp:lastModifiedBy>K.Chiba</cp:lastModifiedBy>
  <cp:revision>0</cp:revision>
  <dc:subject/>
  <dc:title>Smart Battery System Check Point for inprementation</dc:title>
</cp:coreProperties>
</file>