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240-0F03-4679-A5D6-6BEF662E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023E-D073-47FE-ABF8-497D24E9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5C05-E7B2-472D-893E-5EE52173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DAC-73F3-4A59-951C-077583F4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31A8-8A0B-4562-9A33-3A2E397D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047-2E9F-4C23-A246-09C92E3A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E46-2C80-4A60-BC0B-3CCE75A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423C-2960-4722-AAF2-8C3003D2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EC6-B931-495A-A969-26A98883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B8E-11B7-4A4A-A919-BBE97D85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0AD0-46E6-4FA3-BEF4-60650765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533-3CD2-4836-BFA8-CA87C41D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73C0-945B-4C3C-A940-1AB88CEC9B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MBus Architecture Overview and Integration with OS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1765800" y="3974040"/>
            <a:ext cx="389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BS IF  - CompuDevCon ‘98 Taiwan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rcRect l="6024" t="5327" r="5052" b="11795"/>
          <a:stretch/>
        </p:blipFill>
        <p:spPr>
          <a:xfrm>
            <a:off x="0" y="6289560"/>
            <a:ext cx="1147680" cy="56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mart Battery Data Accuracy Specifi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il Mumm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ctober 199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harge battery at 1C ra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 change discharge rate t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/2 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0 M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 M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70 MA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/2 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C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ot recorded and reported valu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5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librate batte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ore battery 48 hours between 20 &amp; 25 degrees 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harge battery and record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x erro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ergy removed from batt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at 40 degre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, storing 7 days between 20 &amp; 25 degrees C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6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rd cycle cou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 discharge batte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nect to 12 vol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ify SMBus communication restor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erify cycle count restor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 confidence that charger will fully charge battery based on data, not voltage read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ive confidence to user that time remaining is accura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ow importance of “re-calibration” capability for notebook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rtify batteries with a pass/no pass evalu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Basic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the accuracy of the data reported by smart batte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st equipment compares charge energy and discharge energy with battery reported dat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 basic tests with multiple par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emulate real notebook environ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ter full discharge and full char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ter partial discharging and partial charging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05840" indent="-20088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ter prolonged storag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ification Feedbac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rrent revision number 0.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rt Battery Data Accuracy Specification is on the web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ttp://www.sbs-forum.or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and give feedback to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edback@sbs-forum.or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Setup Exampl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4648320"/>
            <a:ext cx="3504960" cy="1600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ds Voltage/Curr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easure voltage/curren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utput control to char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1447920"/>
            <a:ext cx="2362320" cy="160020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1411200"/>
            <a:ext cx="23623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rogrammabl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har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1828800"/>
            <a:ext cx="1828800" cy="762120"/>
          </a:xfrm>
          <a:prstGeom prst="rect">
            <a:avLst/>
          </a:prstGeom>
          <a:solidFill>
            <a:srgbClr val="0000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315200" y="2590560"/>
            <a:ext cx="0" cy="2057400"/>
          </a:xfrm>
          <a:prstGeom prst="line">
            <a:avLst/>
          </a:prstGeom>
          <a:ln w="507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438280"/>
            <a:ext cx="23623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60560" y="29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MB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334120" y="2437920"/>
            <a:ext cx="0" cy="221004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486400" y="2286000"/>
            <a:ext cx="0" cy="236232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45080" y="3365640"/>
            <a:ext cx="9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Voltage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urren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Monito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tte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38280" y="3047760"/>
            <a:ext cx="0" cy="23619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209680" y="3048120"/>
            <a:ext cx="0" cy="259056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563868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38280" y="5410080"/>
            <a:ext cx="24386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7960" y="4189320"/>
            <a:ext cx="117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command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o charger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Description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1800" y="990720"/>
            <a:ext cx="7997760" cy="554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 defi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ll char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ull dischar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alibrate batter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est temperatur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ameters to measure/read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easure -&gt; Read using external equipment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Read       -&gt; Read over SMBu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ests start with calibrated batt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nown starting poin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cord and plot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easured verses read parameter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ibrate batt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ull charge and full discharge battery five tim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rge battery at full requested ra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sts battery under optimal condition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ibrate batt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ull charge and partial discharge battery to 35% capacity five tim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urrent limit charging current to C/2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eat test with variable loa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alibrate battery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artial charge to 80% and partial discharge battery to 30% capacity five tim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rge battery at full requested rate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8000"/>
              </a:buClr>
              <a:buSzPct val="14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peat test with variable load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8T20:00:34Z</dcterms:created>
  <dc:creator>Robert A. Dunstan</dc:creator>
  <dc:description/>
  <dc:language>en-US</dc:language>
  <cp:lastModifiedBy>Michelle H Chuaprasert</cp:lastModifiedBy>
  <cp:lastPrinted>1998-10-13T15:32:35Z</cp:lastPrinted>
  <dcterms:modified xsi:type="dcterms:W3CDTF">1998-10-13T16:10:04Z</dcterms:modified>
  <cp:revision>68</cp:revision>
  <dc:subject/>
  <dc:title>Smart Battery System - IDF Introduction</dc:title>
</cp:coreProperties>
</file>