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-36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885840" y="8720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CBBC-627E-459F-A5D4-711E7CE671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Img"/>
          </p:nvPr>
        </p:nvSpPr>
        <p:spPr>
          <a:xfrm>
            <a:off x="1191960" y="704520"/>
            <a:ext cx="4593960" cy="344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body"/>
          </p:nvPr>
        </p:nvSpPr>
        <p:spPr>
          <a:xfrm>
            <a:off x="929880" y="4392360"/>
            <a:ext cx="5118120" cy="423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768320" y="934920"/>
            <a:ext cx="3475080" cy="2606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you see the Win 98 driver stack.  The dotted line again divides h/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/w. As you can see the smart battery driver and the SMBus h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r driver are not loa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shows the two methods of accessing SMBus devices,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PI driver, ie control methods, or through the embedded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697040" y="10605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227160" y="4438800"/>
            <a:ext cx="6418080" cy="372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speak briefly about ACPI and SMBus. ACPI defines a specific SMBus I/F.  It resides beh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bedded controller and has a defined mechanism to access devices on the SMBus. When the OS sees this type of SMBus it knows how to directly query devices on it without using control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 not want to imply that other types of SMBuses are not ACPI compliant! The PIIX-4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Bus is ACPI compliant. It does not have the same I/F that is defined in chapter 13 and it is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CI device. It is an ISA device with static resources. This can be described in the ACPI 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ontrol methods can be defined to access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768320" y="934920"/>
            <a:ext cx="3475080" cy="2606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38080" y="4360680"/>
            <a:ext cx="5105520" cy="48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 diagram of the PIIX-4E SMBus controller.  As you can se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ree ways shown here to access it, however, only one can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sues is that if multiple threads/drivers access it with nothing do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tion, then commands can get lost or sent incorrectly. This is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/F to the controller is first a command and then a data byte. If a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 sends a command after a previous thread had send a command,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command byte will be interpreted as a data byte and the fir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 data will be a command by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thermal sensor is on this bus then the ACPI driver owns the I/F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ut all device commands in control methods. This is good for a plat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, but it is not a generic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Define a standard set of ACPI commands for specific devices.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groups doing this. This would allow a standard driver to be lo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eneral applets would then access this d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 third solution would be to put only OEM specific devices o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 and write control methods to access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questions or feedback, please use this web si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@sbs-forum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766880" y="934920"/>
            <a:ext cx="3475080" cy="2606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I will tal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MBus(es) in a mob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ccessing SMBus devices in an N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ccessing SMBus devices in a Win 98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inally, I will talk about the SMB architecture in a PIIX-4E environ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ing a legacy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697040" y="10605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227160" y="4438800"/>
            <a:ext cx="6418080" cy="372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Bus is becoming very popular with new designs. The number of components that support SMBus is growing.  Some systems even have more than one SMBus.  One may be used for a batte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other may be used for other devices such as back light control or memory serial pres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. This has brought about a requirement to access these new devices via softwar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/w solution is distinct for each SMBus type, the OEM requirements and the O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PI defines an SMBus interface, with an SMBus behind an embedded controller that ha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interface. This does not mean that other SMBus architectures are not ACPI compliant.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means that if the OS is to directly access the SMBus it must conform to the defined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697040" y="10605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27160" y="4438800"/>
            <a:ext cx="6418080" cy="372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in NT 5.0, at boot up, the OS will check the ACPI tables to see if an ACPI defined S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ind an embedded controller exists. If it does, and there is a smart battery system present, it w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the smart battery driver.  Since it is a standard I/F, the OS can directly access the SMBu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if a smart battery system exists. The OS owns the resources (I/O port) to the E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applets can then request battery information through this driver. They can not dire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the embedded controller since the OS owns the EC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766880" y="934920"/>
            <a:ext cx="3475080" cy="2606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3987360"/>
            <a:ext cx="5029200" cy="383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ways an OEM driver/applet can access SMBus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ncludes battery devices as well as other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recommended method is through the SM Bus host controller.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generic method that works on all systems running NT 5.0.  All 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devices can be access using this meth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: works on all NT 5.0 systems and for all SMBus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ntrol methods: All SMBus devices and all of their functions can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ed this way, however, all functions must be supported in the AC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.  This is a very good way to access devices on one particular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EM can use this to add custom functionality to hi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: Works for all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Support routines must be built into the system 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it is probably platform specif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mart battery driver:  This is a good way to ac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 devices but not other type of de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766880" y="934920"/>
            <a:ext cx="3475080" cy="2606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functional diagram of the battery driver stack.  The drivers 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tted lines are loaded if NT detects a smart battery system beh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PI defined S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the three methods of accessing SMBus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rough the SMBus host controller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rough ACPI driver, ie, through control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rough the smart battery d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697040" y="10605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27160" y="4438800"/>
            <a:ext cx="6418080" cy="372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commended method of accessing OEM SMBus devices is using the SMBus 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r I/F.  This is described in Microsoft’s DD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basic comman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Bus request, register alarm, deregister al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766880" y="934920"/>
            <a:ext cx="3475080" cy="2606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Bus access in Windows 98 is different than in NT 5.0.  Most importa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Bus host controller driver are not loaded in Win 98! This remove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ed interface to the SMBus.  Two methods are avail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rough control methods.  All commands for a device can be sup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 the commands must be supported by the ACPI ROM.  This m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ing devices in this manner will be platform specific. This is a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to customize an OEM’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eneric access to the SMBus is through the embedded controller driv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access to the EC is not allowed as the EC driver needs to arbit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threads that may be accessing the controller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EFD-AB97-4422-B24B-EB163F48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5E3C-1BF8-4D59-B99C-4F60FB7E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6FA-6740-4C41-AB87-E648FF93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6CB-FDA2-4984-8515-EFEF8D32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CAB-B6D0-49C5-BE31-FAD0E71D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827-DD94-4CD7-B0CC-37F95586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54E-773C-464A-81A4-3A0E54FE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C29-5102-4683-9162-6AE696E3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EB8-BB75-45D4-A5B7-5A7277C9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0A0-74F8-407B-AA6C-5B18D4DF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621A-3077-4C8E-8EE1-7187A526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E57-4FBA-4011-9395-60286EF3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9494-4B25-4B1F-BEEE-70D14C1EB9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         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BS-IF Organization and Benefits - Intel Corp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1765800" y="3974040"/>
            <a:ext cx="389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BS IF  - CompuDevCon ‘98 Taiwa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rcRect l="6024" t="5327" r="5052" b="11795"/>
          <a:stretch/>
        </p:blipFill>
        <p:spPr>
          <a:xfrm>
            <a:off x="0" y="6289560"/>
            <a:ext cx="114768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SMBu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rchitecture Overview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&amp;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gration With OS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il Mummah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l® Corporation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60600" y="6202440"/>
            <a:ext cx="424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pyright © 1998 SBS Implementers Forum, All Rights Reserv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00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ndows* 98 SMBus Acces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2286000"/>
            <a:ext cx="2562480" cy="44460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riv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6840" y="4203720"/>
            <a:ext cx="3873600" cy="52056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mbedded Controller Driv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2755800"/>
            <a:ext cx="0" cy="1435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3589200"/>
            <a:ext cx="0" cy="601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4737240"/>
            <a:ext cx="0" cy="1054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08240" y="5791320"/>
            <a:ext cx="69213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5791320"/>
            <a:ext cx="2819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PI Defined SMB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99000" y="3962520"/>
            <a:ext cx="1206720" cy="136512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Smart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tter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99200" y="3962520"/>
            <a:ext cx="1206720" cy="136512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E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vi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Thermal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ensor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02360" y="5346720"/>
            <a:ext cx="0" cy="444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02560" y="5346720"/>
            <a:ext cx="0" cy="444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1600200"/>
            <a:ext cx="1968480" cy="44460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EM Ap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752480" y="2063520"/>
            <a:ext cx="0" cy="215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4952880"/>
            <a:ext cx="3873240" cy="52092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mbedded Controll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1600200"/>
            <a:ext cx="1968480" cy="44460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S Ap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2070000"/>
            <a:ext cx="0" cy="10540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2752560"/>
            <a:ext cx="0" cy="371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3137040"/>
            <a:ext cx="1968480" cy="44424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PI Driv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033520" y="3814920"/>
            <a:ext cx="3878280" cy="792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55960" y="3429000"/>
            <a:ext cx="66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/W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55600" y="3886200"/>
            <a:ext cx="68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/W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846000" y="4876920"/>
            <a:ext cx="41832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817800"/>
            <a:ext cx="0" cy="105912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5040" y="6324480"/>
            <a:ext cx="51930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* Other trademarks and brands are the property of their respective owner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00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3124080" y="2057400"/>
            <a:ext cx="0" cy="216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30592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82371EB (PIIX-4E) SMBu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ACPI defined SMBu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PI defined SMBus is behind an embedded controll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fined in ACPI spec, chapter 13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2371EB SMBus is NOT a PCI dev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oes not show up in PCI config space (Offset 00-040H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2371EB SMBus is an ISA dev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tic resour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IOS sets I/O rang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RQ fixed at IRQ 9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 not put battery systems (charger) on this bu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for thermal devices, RAM SPD, Back light contro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00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82371EB (PIIX-4E) SMBu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2590920"/>
            <a:ext cx="2667240" cy="91440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4724280"/>
            <a:ext cx="3873600" cy="52092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ipset/SMBus Host Controlle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14680" y="2743200"/>
            <a:ext cx="17431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5264280"/>
            <a:ext cx="0" cy="6728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31920" y="5937120"/>
            <a:ext cx="69213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6013440"/>
            <a:ext cx="312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82371EB SMB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87960" y="4724280"/>
            <a:ext cx="1206360" cy="74952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rm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enso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5492880"/>
            <a:ext cx="0" cy="444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16760" y="4724280"/>
            <a:ext cx="1206360" cy="74952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EM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vic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5492880"/>
            <a:ext cx="0" cy="444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1390680"/>
            <a:ext cx="2667240" cy="90180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EM App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98600"/>
            <a:ext cx="0" cy="292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2584440"/>
            <a:ext cx="2666880" cy="83808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PI Drive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3968640"/>
            <a:ext cx="0" cy="749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371600"/>
            <a:ext cx="2666880" cy="90180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S Thermal App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2298600"/>
            <a:ext cx="0" cy="2923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3814920"/>
            <a:ext cx="0" cy="909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93720" y="4572000"/>
            <a:ext cx="822168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55960" y="4175280"/>
            <a:ext cx="66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/W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55600" y="4632480"/>
            <a:ext cx="68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/W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43760" y="3962520"/>
            <a:ext cx="3467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If thermal sensor on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82371EB SMBus (OS owns resources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5160" y="3930480"/>
            <a:ext cx="146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If OS does not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wn resourc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52760" y="3962520"/>
            <a:ext cx="22003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53080" y="3441600"/>
            <a:ext cx="0" cy="520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10000" y="3276720"/>
            <a:ext cx="295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43080" y="3809880"/>
            <a:ext cx="16668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281400"/>
            <a:ext cx="0" cy="528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82720" y="2819520"/>
            <a:ext cx="52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53960" y="2589120"/>
            <a:ext cx="11757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ssi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360" y="2711520"/>
            <a:ext cx="84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EM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2592360"/>
            <a:ext cx="0" cy="98892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3506760"/>
            <a:ext cx="0" cy="120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520" y="3962520"/>
            <a:ext cx="52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00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Back Up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6000" y="152280"/>
            <a:ext cx="883764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quest SMBus Transaction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EM driver makes SMBus transaction request to the SMB driv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itiate an IRP_MJ_INTERNAL_DEVICE_CONTROL IRP with the IOCTL code of SMB_BUS_REQUEST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85840">
              <a:lnSpc>
                <a:spcPct val="94000"/>
              </a:lnSpc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ss  SMBus protocol, device address as input parameter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MB driver returns data to the OEM dri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6000" y="152280"/>
            <a:ext cx="88376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quest SMBus Transaction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d a word from SMB dev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MB_REQUEST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mbReq;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mbReq.Protocol = SMB_READ_WORD;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mbReq.Address = DeviceSmbAddress;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mbReq.Command = SmbCmd;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// Build a IRP to send to the SMB driv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rp = IoAllocateIrp(SmbHcFdo-&gt;StackSize, FALSE);  // alocate memory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rpSp = IoGetNextIrpStackLocation(Irp)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// point to stack locatio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rpSp-&gt;MajorFunction = IRP_MJ_INTERNAL_DEVICE_CONTROL;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rpSp-&gt;Parameters.DeviceIoControl.IoControlCode = SMB_BUS_REQUEST;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rpSp-&gt;Parameters.DeviceIoControl.InputBufferLength = sizeof(SMB_REQUEST);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rpSp-&gt;Parameters.DeviceIoControl.Type3InputBuffer = SmbReq;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oSetCompletionRoutine(Irp, OEMDevSyncRequest, &amp;Event, …);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6000" y="152280"/>
            <a:ext cx="88376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quest SMBus Transaction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ad a word from SMBus device (Con’t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// Send IRP to SMB driv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oCallDriver(SmbHcFdo, Irp)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KeWaitForSingleObject(&amp;Event, Executive, KernelMode, FALSE, NULL)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tus  = Irp-&gt;IoStatus.Status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oFreeIrp(Irp)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// Fetch Dat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f(NT_SUCCESS(Status)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*DataWord = SmbReq.Data[0] | (SmbReq.Data[1] &lt;&lt; 8)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6360" y="152280"/>
            <a:ext cx="853272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gister For SMBus Alarm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9000"/>
          </a:bodyPr>
          <a:p>
            <a:pPr marL="150840" indent="-15084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EM driver initiates an IRP_MJ_INTERNAL_DEVICE_CONTROL IRP with the IOCTL code of SMB_REGISTER_ALARM_NOTIFY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281520" indent="-97560">
              <a:lnSpc>
                <a:spcPct val="94000"/>
              </a:lnSpc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ss  device addresses to generate alarm as input paramet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281520" indent="-97560">
              <a:lnSpc>
                <a:spcPct val="94000"/>
              </a:lnSpc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ss callback function as input paramet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6360" y="152280"/>
            <a:ext cx="86090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gister for SMBus Alarm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ster callback functions for SMBus alar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MB_REGISTER_ALARM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gisterAlarm;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gisterAlarm.MinAddress = DeviceSmbMinAddress;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gisterAlarm.MaxAddress = DeviceSmbMaxAddress;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gisterAlarm.NotifyFunction = NotifyFunction;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gisterAlarm.NotifyContext = NotifyContext;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// Build a IRP to send to the SMB driv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rp = IoAllocateIrp(SmbHcFdo-&gt;StackSize, FALSE);  // alocate memory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rpSp = IoGetNextIrpStackLocation(Irp)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// point to stack locatio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rpSp-&gt;MajorFunction = IRP_MJ_INTERNAL_DEVICE_CONTROL;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rpSp-&gt;Parameters.DeviceIoControl.IoControlCode = SMB_REGISTER_ALARM;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rpSp-&gt;Parameters.DeviceIoControl.InputBufferLength = sizeof(SMB_REGISTER_ALARM);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rpSp-&gt;Parameters.DeviceIoControl.Type3InputBuffer = registerAlarm;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6360" y="152280"/>
            <a:ext cx="86090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gister for SMBus Alarm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gister callback function (Con’t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// Send IRP to SMB driv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oCallDriver(SmbHcFdo, Irp)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KeWaitForSingleObject(&amp;Event, Executive, KernelMode, FALSE, NULL)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tus  = Irp-&gt;IoStatus.Status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oFreeIrp(Irp)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// OEM driver’s callback func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ifyFunction(){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4000"/>
              </a:lnSpc>
              <a:spcBef>
                <a:spcPts val="10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MBus in a mobile system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Bef>
                <a:spcPts val="10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cess in Windows* NT 5.0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Bef>
                <a:spcPts val="10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ccess in Windows* 98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Bef>
                <a:spcPts val="10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82371EB (PIIX-4E) SMBu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5040" y="6324480"/>
            <a:ext cx="51930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* Other trademarks and brands are the property of their respective owner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126120"/>
            <a:ext cx="7924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ll products, plans and dates are preliminary and subject to change without any notice.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00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PI Hardware and Software Tools and Demo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9920" y="152280"/>
            <a:ext cx="88837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indows* 98 with Smart Batter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38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ujitsu* notebook running Windows 98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ntium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Processor with MM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BS-Forum driv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S battery applet interfaces to batteries with no firmwa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85040" y="6248520"/>
            <a:ext cx="51930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* Other trademarks and brands are the property of their respective owner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75840" y="152280"/>
            <a:ext cx="8691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indows* 98 with Smart Batter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18680" y="1142640"/>
            <a:ext cx="84805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quip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jan reference platform running Windows 98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ntiu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I Processor with MMX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EM style appl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faces to battery syste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sts all smart battery command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SMBus commands (non-battery) possi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ows programmable access to other dev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240" y="75960"/>
            <a:ext cx="888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MBus in Mobile System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176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ny mobile systems implement SMBus interface and devic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spcBef>
                <a:spcPts val="15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mart battery subsyste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spcBef>
                <a:spcPts val="15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mal senso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spcBef>
                <a:spcPts val="15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mory modul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71440">
              <a:spcBef>
                <a:spcPts val="125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D (serial presence detect) for sizin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>
              <a:spcBef>
                <a:spcPts val="176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re than one SMBus may exist in a syst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spcBef>
                <a:spcPts val="15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PI defined SMBus behind an embedded controller (EC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71440">
              <a:spcBef>
                <a:spcPts val="125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ed in chapter 13 of ACPI specifica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spcBef>
                <a:spcPts val="15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82371EB (PIIX-4E) SMB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>
              <a:spcBef>
                <a:spcPts val="176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lications need to retrieve information  from these devic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spcBef>
                <a:spcPts val="15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drivers necessary for each SMBus typ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00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676520"/>
            <a:ext cx="8610480" cy="4800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4114800"/>
            <a:ext cx="4572000" cy="213372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346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mart Battery Architectur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4876920"/>
            <a:ext cx="1295640" cy="91440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harg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5486400"/>
            <a:ext cx="1295280" cy="68580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5257800"/>
            <a:ext cx="1295280" cy="68580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57360" y="3355920"/>
            <a:ext cx="6229440" cy="60660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514600"/>
            <a:ext cx="6629400" cy="53352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Host Controller/Embedded Controll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895480" y="3505320"/>
            <a:ext cx="0" cy="137160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876920" y="3809520"/>
            <a:ext cx="0" cy="16765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696080" y="3809880"/>
            <a:ext cx="0" cy="1447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5600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Batter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5334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Batter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65600" y="332748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lect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562720" y="3047760"/>
            <a:ext cx="0" cy="533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952880" y="1371240"/>
            <a:ext cx="0" cy="1143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914400"/>
            <a:ext cx="66294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/W or Driver Stack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600200"/>
            <a:ext cx="7620120" cy="0"/>
          </a:xfrm>
          <a:prstGeom prst="line">
            <a:avLst/>
          </a:prstGeom>
          <a:ln w="507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4600" y="6094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/W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4600" y="1295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/W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69640" y="470844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MB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Command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047760" y="5638680"/>
            <a:ext cx="1143000" cy="0"/>
          </a:xfrm>
          <a:prstGeom prst="line">
            <a:avLst/>
          </a:prstGeom>
          <a:ln w="12600">
            <a:solidFill>
              <a:srgbClr val="00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048120" y="5410080"/>
            <a:ext cx="4038480" cy="0"/>
          </a:xfrm>
          <a:prstGeom prst="line">
            <a:avLst/>
          </a:prstGeom>
          <a:ln w="12600">
            <a:solidFill>
              <a:srgbClr val="00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7320" y="4216320"/>
            <a:ext cx="216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Recommende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MBus Command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9320" y="4597560"/>
            <a:ext cx="685800" cy="0"/>
          </a:xfrm>
          <a:prstGeom prst="line">
            <a:avLst/>
          </a:prstGeom>
          <a:ln w="1260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7009920" y="5105520"/>
            <a:ext cx="685800" cy="0"/>
          </a:xfrm>
          <a:prstGeom prst="line">
            <a:avLst/>
          </a:prstGeom>
          <a:ln w="1260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876560" y="5105520"/>
            <a:ext cx="685800" cy="0"/>
          </a:xfrm>
          <a:prstGeom prst="line">
            <a:avLst/>
          </a:prstGeom>
          <a:ln w="1260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5791320"/>
            <a:ext cx="0" cy="380880"/>
          </a:xfrm>
          <a:prstGeom prst="line">
            <a:avLst/>
          </a:prstGeom>
          <a:ln w="1260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048120" y="6172200"/>
            <a:ext cx="45720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0840" y="579132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Optional Voltag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Monitorin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78960" y="4038480"/>
            <a:ext cx="217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mart Batter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Compatible to Us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523880" y="1143000"/>
            <a:ext cx="0" cy="457200"/>
          </a:xfrm>
          <a:prstGeom prst="line">
            <a:avLst/>
          </a:prstGeom>
          <a:ln w="507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56840" y="1143000"/>
            <a:ext cx="1066680" cy="0"/>
          </a:xfrm>
          <a:prstGeom prst="line">
            <a:avLst/>
          </a:prstGeom>
          <a:ln w="507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3600" y="1720800"/>
            <a:ext cx="33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OS Compatibility Entry Poin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Control Method or Smart Battery?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5257800"/>
            <a:ext cx="152280" cy="533520"/>
          </a:xfrm>
          <a:prstGeom prst="ellipse">
            <a:avLst/>
          </a:prstGeom>
          <a:noFill/>
          <a:ln w="255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040" y="3322800"/>
            <a:ext cx="371520" cy="29664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20760" y="3348000"/>
            <a:ext cx="371520" cy="297000"/>
          </a:xfrm>
          <a:prstGeom prst="rect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3200400"/>
            <a:ext cx="47246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3809880"/>
            <a:ext cx="19810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3809880"/>
            <a:ext cx="53316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73360" y="3581280"/>
            <a:ext cx="18900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3505320"/>
            <a:ext cx="26672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0120" y="3027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SMBu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38080" y="3187440"/>
            <a:ext cx="0" cy="15228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371600" y="3187440"/>
            <a:ext cx="0" cy="15228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0800" y="3124080"/>
            <a:ext cx="1743120" cy="965160"/>
          </a:xfrm>
          <a:prstGeom prst="rect">
            <a:avLst/>
          </a:prstGeom>
          <a:noFill/>
          <a:ln w="1260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1920" y="3701880"/>
            <a:ext cx="182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Other SMB Devic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266720" y="1981080"/>
            <a:ext cx="685800" cy="0"/>
          </a:xfrm>
          <a:prstGeom prst="line">
            <a:avLst/>
          </a:prstGeom>
          <a:ln w="1260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8048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MBus Access in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indows* NT 5.0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Windows* NT 5.0 ACPI tables define an SMBus host controll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vice object with _HID value “ACPI0001”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ndows* NT 5.0 will load SMBus driver and own the bus resources if an ACPI compliant EC with Smart Battery System is detect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ystem apps regularly request information from the SMBus dri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90800" y="6248520"/>
            <a:ext cx="51930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* Other trademarks and brands are the property of their respective owner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00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88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MBus Access in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indows* NT 5.0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6604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4000"/>
              </a:lnSpc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EM Driver may access SMBus devices through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MBus Host Controller Driver: Recommend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85840">
              <a:lnSpc>
                <a:spcPct val="94000"/>
              </a:lnSpc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eneric, works on all systems running Windows* NT 5.0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rol Method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85840">
              <a:lnSpc>
                <a:spcPct val="94000"/>
              </a:lnSpc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unction calls from driver must be implemented by control methods in RO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85840">
              <a:lnSpc>
                <a:spcPct val="94000"/>
              </a:lnSpc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f function calls are not standard, driver will not work on all system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mart Battery Driv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85840">
              <a:lnSpc>
                <a:spcPct val="94000"/>
              </a:lnSpc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pports battery commands onl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486080" indent="-228600">
              <a:spcBef>
                <a:spcPts val="45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S uses sub-set of smart battery commands in its apple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85840">
              <a:lnSpc>
                <a:spcPct val="94000"/>
              </a:lnSpc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viable to access non-SBS devic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5040" y="6324480"/>
            <a:ext cx="51930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* Other trademarks and brands are the property of their respective owner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00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T 5.0 SMBus Acc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676520"/>
            <a:ext cx="1968480" cy="44424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EM Driv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6840" y="3435480"/>
            <a:ext cx="3873600" cy="44424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Bus Host Controller Driv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6840" y="4197240"/>
            <a:ext cx="3873600" cy="52092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mbedded Controller Driv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990720"/>
            <a:ext cx="3962520" cy="44424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ystem OS App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2141640"/>
            <a:ext cx="0" cy="1287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16160" y="2679840"/>
            <a:ext cx="2654280" cy="44424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art Battery Driv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3132000"/>
            <a:ext cx="0" cy="297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894120"/>
            <a:ext cx="0" cy="297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1455840"/>
            <a:ext cx="0" cy="1211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4732200"/>
            <a:ext cx="0" cy="1440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03200" y="6172200"/>
            <a:ext cx="73836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6232680"/>
            <a:ext cx="289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CPI Defined SMB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4572000"/>
            <a:ext cx="1066680" cy="113652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art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atter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4572000"/>
            <a:ext cx="1060200" cy="113652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E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vi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5722920"/>
            <a:ext cx="0" cy="449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5722920"/>
            <a:ext cx="0" cy="449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133720"/>
            <a:ext cx="11430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EM Device with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MB Request (IRP)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990720"/>
            <a:ext cx="1968480" cy="44424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EM Ap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05120" y="1452240"/>
            <a:ext cx="0" cy="220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03320" y="5029200"/>
            <a:ext cx="3873600" cy="52056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mbedded Controll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2141640"/>
            <a:ext cx="0" cy="525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76520" y="2254320"/>
            <a:ext cx="1766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attery Command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4572000"/>
            <a:ext cx="984240" cy="113652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rma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vi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01000" y="5722920"/>
            <a:ext cx="0" cy="4492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3360600"/>
            <a:ext cx="0" cy="60192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22320" y="3962520"/>
            <a:ext cx="410688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2217600"/>
            <a:ext cx="0" cy="174492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21960" y="3352680"/>
            <a:ext cx="113508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2217600"/>
            <a:ext cx="0" cy="113508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064960" y="2209680"/>
            <a:ext cx="296388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51640" y="3060720"/>
            <a:ext cx="1968480" cy="444600"/>
          </a:xfrm>
          <a:prstGeom prst="rect">
            <a:avLst/>
          </a:prstGeom>
          <a:solidFill>
            <a:srgbClr val="97b5fe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PI Driv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27440" y="1905120"/>
            <a:ext cx="37256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629400" y="3506400"/>
            <a:ext cx="0" cy="909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4840" y="4419720"/>
            <a:ext cx="17445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959360" y="4495680"/>
            <a:ext cx="403056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430120" y="4098960"/>
            <a:ext cx="63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/W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30120" y="4556160"/>
            <a:ext cx="68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/W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68240" y="4952880"/>
            <a:ext cx="41832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1440" y="4503600"/>
            <a:ext cx="0" cy="44928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010280" y="1450800"/>
            <a:ext cx="0" cy="1595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553080" y="1906560"/>
            <a:ext cx="0" cy="1139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15680" y="1981080"/>
            <a:ext cx="1375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river command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must be support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by control method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 the system ROM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13840" y="6302520"/>
            <a:ext cx="51930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* Other trademarks and brands are the property of their respective owner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00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88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MBus Driver Interface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MBus driver defines interfaces available through the DeviceIoControl function to other kernel-mode driv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MB_BUS_REQUEST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85840">
              <a:lnSpc>
                <a:spcPct val="94000"/>
              </a:lnSpc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ndles all SMBus transactions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MB_REGISTER_ALARM_NOTIF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85840">
              <a:lnSpc>
                <a:spcPct val="94000"/>
              </a:lnSpc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lows user to register a callback function for SMBus alarm notific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MB_DEREGISTER_ALARM_NOTIF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85840">
              <a:lnSpc>
                <a:spcPct val="94000"/>
              </a:lnSpc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-register callback function for SMBus alarm notific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00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MBus Access in Windows* 98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4000"/>
              </a:lnSpc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mart Battery Driver and SMBus Host Controller Driver are not loaded in Windows* 98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 interface to SMBus is through control methods or through the Embedded Controller Drive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ttery control methods defined in ACPI specifica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85840">
              <a:lnSpc>
                <a:spcPct val="94000"/>
              </a:lnSpc>
              <a:spcBef>
                <a:spcPts val="45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ub-set of smart battery command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85840">
              <a:lnSpc>
                <a:spcPct val="94000"/>
              </a:lnSpc>
              <a:spcBef>
                <a:spcPts val="45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S only uses these commands to access battery sub-syste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EM can define super-set of battery commands and implement in control method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85840">
              <a:lnSpc>
                <a:spcPct val="94000"/>
              </a:lnSpc>
              <a:spcBef>
                <a:spcPts val="45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let/Driver can then call control method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85840">
              <a:lnSpc>
                <a:spcPct val="94000"/>
              </a:lnSpc>
              <a:spcBef>
                <a:spcPts val="45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let/Driver will only work on system that has the extra commands in RO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eneric access to SMBus would be through the Embedded Controller (EC) Drive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85840">
              <a:lnSpc>
                <a:spcPct val="94000"/>
              </a:lnSpc>
              <a:spcBef>
                <a:spcPts val="45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C driver arbitrates access to the embedded controll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5040" y="6324480"/>
            <a:ext cx="51930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* Other trademarks and brands are the property of their respective owner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18960" y="6283440"/>
            <a:ext cx="674640" cy="353520"/>
            <a:chOff x="318960" y="6283440"/>
            <a:chExt cx="674640" cy="35352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318960" y="6283440"/>
              <a:ext cx="5461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59960" y="6407280"/>
              <a:ext cx="23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baseline="30000">
                  <a:solidFill>
                    <a:srgbClr val="ffff00"/>
                  </a:solidFill>
                  <a:latin typeface="Arial"/>
                </a:rPr>
                <a:t>®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3T15:42:28Z</dcterms:created>
  <dc:creator>Michelle H Chuaprasert</dc:creator>
  <dc:description/>
  <dc:language>en-US</dc:language>
  <cp:lastModifiedBy>Michelle H Chuaprasert</cp:lastModifiedBy>
  <cp:lastPrinted>1998-10-12T17:45:24Z</cp:lastPrinted>
  <dcterms:modified xsi:type="dcterms:W3CDTF">1998-10-13T15:53:22Z</dcterms:modified>
  <cp:revision>2</cp:revision>
  <dc:subject/>
  <dc:title>SMBus Architecture Overview &amp; Integration With OS  Phil Mummah Intel® Corporation  </dc:title>
</cp:coreProperties>
</file>